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A31F-09F5-475F-8CE2-640286A9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19520" y="3617640"/>
            <a:ext cx="632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BC83-43CA-4F98-8864-0C1AE611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3086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060600" y="990720"/>
            <a:ext cx="3086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19520" y="3617640"/>
            <a:ext cx="3086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60600" y="3617640"/>
            <a:ext cx="3086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175D-ADED-47B5-A336-B0DAF71E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203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57920" y="990720"/>
            <a:ext cx="203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096320" y="990720"/>
            <a:ext cx="203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819520" y="3617640"/>
            <a:ext cx="203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957920" y="3617640"/>
            <a:ext cx="203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096320" y="3617640"/>
            <a:ext cx="203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380-C0E7-4078-A861-A0FB3F35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DAF2B-C09D-4869-8736-B3BB390C5C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0BA38-2D1C-4AAE-8F03-1774C289B7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75DD1-43A6-4211-8BFE-711F7D8A23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308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060600" y="990720"/>
            <a:ext cx="308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66C3A-B533-4273-9A7C-5A0EB57074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28138-D446-4F0A-8EBB-E442514920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6A392-5702-40B5-A1F7-2BCD688036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3086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60600" y="990720"/>
            <a:ext cx="308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520" y="3617640"/>
            <a:ext cx="3086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94E6A-78E7-4E47-9D0A-9E2994B262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F288-934F-4BC9-BF42-78659366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308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60600" y="990720"/>
            <a:ext cx="3086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60600" y="3617640"/>
            <a:ext cx="3086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F3E7F-3B4F-410E-8902-C4511D9B54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3086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60600" y="990720"/>
            <a:ext cx="3086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520" y="3617640"/>
            <a:ext cx="632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89A4D-DF6E-4B22-A36C-6CE1BAA877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520" y="3617640"/>
            <a:ext cx="632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0E319-79B0-425D-801B-0017B20AFA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3086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60600" y="990720"/>
            <a:ext cx="3086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520" y="3617640"/>
            <a:ext cx="3086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60600" y="3617640"/>
            <a:ext cx="3086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DA12E-BD8F-4DE8-A315-AB9E2F648C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203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7920" y="990720"/>
            <a:ext cx="203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096320" y="990720"/>
            <a:ext cx="203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520" y="3617640"/>
            <a:ext cx="203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957920" y="3617640"/>
            <a:ext cx="203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096320" y="3617640"/>
            <a:ext cx="203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042B3-2C8B-4BC6-9E3E-D8371B96E3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5FF1-95D5-4A15-AA6A-61C97881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308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0600" y="990720"/>
            <a:ext cx="308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264-AF71-4722-B527-36E72981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414-CC62-477D-A097-085BD800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66D7-A8F4-475E-A706-0E2662C2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3086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60600" y="990720"/>
            <a:ext cx="308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819520" y="3617640"/>
            <a:ext cx="3086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5CBA-1BE8-47A2-9AA2-9B1303E4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308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60600" y="990720"/>
            <a:ext cx="3086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60600" y="3617640"/>
            <a:ext cx="3086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8F3F-36F4-4E3E-8FCF-0E043FE6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3086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60600" y="990720"/>
            <a:ext cx="3086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819520" y="3617640"/>
            <a:ext cx="632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BB3-766A-4112-A924-11728C7B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mericas" descr=""/>
          <p:cNvPicPr/>
          <p:nvPr/>
        </p:nvPicPr>
        <p:blipFill>
          <a:blip r:embed="rId3"/>
          <a:stretch/>
        </p:blipFill>
        <p:spPr>
          <a:xfrm>
            <a:off x="1447920" y="4267080"/>
            <a:ext cx="1295280" cy="2590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43200" y="914400"/>
            <a:ext cx="0" cy="5943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267080"/>
            <a:ext cx="1295280" cy="2590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267080"/>
            <a:ext cx="1447920" cy="1371600"/>
          </a:xfrm>
          <a:prstGeom prst="rect">
            <a:avLst/>
          </a:prstGeom>
          <a:solidFill>
            <a:srgbClr val="e874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2534-64F3-459F-A3B4-CFD526A71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7DBE-4687-48B1-A7C4-FFB9C9F81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ersonal Selling &amp; The Marketing Concept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KT 331 – Relationship Marketing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286000"/>
            <a:ext cx="495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solidFill>
            <a:srgbClr val="e874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eek 4: 2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Oct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6400800"/>
            <a:ext cx="533412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57240"/>
            <a:ext cx="9144000" cy="54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sonal Selling &amp; the Mktg Concep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volution of Partnering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1905120"/>
            <a:ext cx="8839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ccessful Partn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y close to cu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ly search for new ways to add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g. Xerox Cor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les ppl emphasize on postsale s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nuses r based on sales &amp; cust. satisf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6400800"/>
            <a:ext cx="533412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57240"/>
            <a:ext cx="9144000" cy="54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sonal Selling &amp; the Mktg Concep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volution of Partnering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905120"/>
            <a:ext cx="8839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tnering is Enhanced with High Ethical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1905120"/>
            <a:ext cx="8839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tnering is Enhanced with High Ethical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or ethical decisions can weaken or destro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1905120"/>
            <a:ext cx="8839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tnering is Enhanced with High Ethical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or ethical decisions can weaken or destro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etitor exaggerate claims abt pdt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1905120"/>
            <a:ext cx="8839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tnering is Enhanced with High Ethical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or ethical decisions can weaken or destro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etitor exaggerate claims abt pdt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you overpromi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905120"/>
            <a:ext cx="8839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tnering is Enhanced with High Ethical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or ethical decisions can weaken or destro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etitor exaggerate claims abt pdt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you overpromi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ving past sales or new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1905120"/>
            <a:ext cx="8839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tnering is Enhanced with High Ethical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or ethical decisions can weaken or destro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etitor exaggerate claims abt pdt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you overpromi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ving past sales or new sal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ose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6400800"/>
            <a:ext cx="533412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957240"/>
            <a:ext cx="9144000" cy="54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sonal Selling &amp; the Mktg Concep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volution of Partnering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1905120"/>
            <a:ext cx="8839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tnering is Enhanced with Sales Auto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ies used to improve communication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n &amp; cust. respons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1905120"/>
            <a:ext cx="8839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tnering is Enhanced with Sales Auto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ies used to improve communication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n &amp; cust. respons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eded to process massive amt of info available to salesp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p salesppl saty connected to cust, sales support personnel &amp; other key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905120"/>
            <a:ext cx="8839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tnering is Enhanced with Sales Auto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ies used to improve communication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n &amp; cust. respons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eded to process massive amt of info available to salesp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p salesppl saty connected to cust, sales support personnel &amp; other key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 Relationship management (CR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CRM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6400800"/>
            <a:ext cx="533412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957240"/>
            <a:ext cx="9144000" cy="54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sonal Selling &amp; the Mktg Concep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trategic Alliances – The Highest Form of Partnering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175248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hieve mktplace advantage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aming up with compan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se pdts &amp; sv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fit well w your 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380988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i="1" lang="en-US" sz="2800" spc="-1" strike="noStrike">
                <a:solidFill>
                  <a:srgbClr val="e87400"/>
                </a:solidFill>
                <a:latin typeface="Times New Roman"/>
              </a:rPr>
              <a:t>Hair Sal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eam up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e874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87400"/>
                </a:solidFill>
                <a:latin typeface="Times New Roman"/>
              </a:rPr>
              <a:t>Manic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e874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87400"/>
                </a:solidFill>
                <a:latin typeface="Times New Roman"/>
              </a:rPr>
              <a:t>F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e874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87400"/>
                </a:solidFill>
                <a:latin typeface="Times New Roman"/>
              </a:rPr>
              <a:t>S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e874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87400"/>
                </a:solidFill>
                <a:latin typeface="Times New Roman"/>
              </a:rPr>
              <a:t>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lationship Selling v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ransaction Selling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KT 331 – Relationship Marketing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2286000"/>
            <a:ext cx="495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solidFill>
            <a:srgbClr val="e874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eek 4: 2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Oct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6400800"/>
            <a:ext cx="533412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957240"/>
            <a:ext cx="9144000" cy="54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lationship Selling vs Transaction Selling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Changing Nature of Personal Selling (PS) &amp; Sales Mgmt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olved thru 4 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e of sales mgmt changes in respons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ing nature of 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6400800"/>
            <a:ext cx="533412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957240"/>
            <a:ext cx="9144000" cy="54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lationship Selling vs Transaction Selling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alesperson Role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" y="1731960"/>
          <a:ext cx="8686800" cy="4668840"/>
        </p:xfrm>
        <a:graphic>
          <a:graphicData uri="http://schemas.openxmlformats.org/drawingml/2006/table">
            <a:tbl>
              <a:tblPr/>
              <a:tblGrid>
                <a:gridCol w="2714760"/>
                <a:gridCol w="597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Era/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Sales Force Object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Sales Force Ori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Critical tasks of salesp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Activities of salesp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Role of salesper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Focus of sales mg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2933280" y="1666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0000" y="203688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king 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68560" y="2401920"/>
            <a:ext cx="259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hort-tem seller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67120" y="2782800"/>
            <a:ext cx="33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aking orders, Deliver g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62440" y="3222720"/>
            <a:ext cx="391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king Sales call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forming cust. abt firm’s off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2160" y="392580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v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68920" y="4307040"/>
            <a:ext cx="22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dividual salesp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62080" y="4764240"/>
            <a:ext cx="465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phasis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efficient resorce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…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nd motivate salesppl to work ha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6400800"/>
            <a:ext cx="533412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957240"/>
            <a:ext cx="9144000" cy="54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lationship Selling vs Transaction Selling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alesperson Role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28600" y="1731960"/>
          <a:ext cx="8686800" cy="4668840"/>
        </p:xfrm>
        <a:graphic>
          <a:graphicData uri="http://schemas.openxmlformats.org/drawingml/2006/table">
            <a:tbl>
              <a:tblPr/>
              <a:tblGrid>
                <a:gridCol w="2714760"/>
                <a:gridCol w="597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Era/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Sales Force Object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Sales Force Ori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Critical tasks of salesp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Activities of salesp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Role of salesper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Focus of sales mg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2966400" y="16668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0000" y="203688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king 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68200" y="2401920"/>
            <a:ext cx="27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hort-term seller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65320" y="2782800"/>
            <a:ext cx="35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nvincing buyers to buy pd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62800" y="3336840"/>
            <a:ext cx="476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fluencing cust. using hard-sell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2160" y="392580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ersu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68920" y="4307040"/>
            <a:ext cx="22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dividual salesp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62080" y="4764240"/>
            <a:ext cx="465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phasis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efficient resorce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…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nd motivate salesppl to work ha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6400800"/>
            <a:ext cx="533412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957240"/>
            <a:ext cx="9144000" cy="54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lationship Selling vs Transaction Selling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alesperson Role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28600" y="1731960"/>
          <a:ext cx="8686800" cy="4668840"/>
        </p:xfrm>
        <a:graphic>
          <a:graphicData uri="http://schemas.openxmlformats.org/drawingml/2006/table">
            <a:tbl>
              <a:tblPr/>
              <a:tblGrid>
                <a:gridCol w="2714760"/>
                <a:gridCol w="597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Era/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Sales Force Object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Sales Force Ori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Critical tasks of salesp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Activities of salesp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Role of salesper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Focus of sales mg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"/>
          <p:cNvSpPr/>
          <p:nvPr/>
        </p:nvSpPr>
        <p:spPr>
          <a:xfrm>
            <a:off x="2965680" y="166680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67120" y="2036880"/>
            <a:ext cx="24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atisfying cust.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66040" y="2401920"/>
            <a:ext cx="350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hort-tem cust. &amp; buyer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59920" y="2782800"/>
            <a:ext cx="51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tching available offerings to buyer’s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61000" y="3336840"/>
            <a:ext cx="524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fluencing cust. by practicing adaptive 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70720" y="392580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blem Sol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68920" y="4307040"/>
            <a:ext cx="22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dividual salesp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61360" y="4764240"/>
            <a:ext cx="477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phasis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election&amp;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…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o improve 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…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nd motivate salesppl to work smar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6400800"/>
            <a:ext cx="533412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957240"/>
            <a:ext cx="9144000" cy="54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lationship Selling vs Transaction Selling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alesperson Role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28600" y="1731960"/>
          <a:ext cx="8686800" cy="4668840"/>
        </p:xfrm>
        <a:graphic>
          <a:graphicData uri="http://schemas.openxmlformats.org/drawingml/2006/table">
            <a:tbl>
              <a:tblPr/>
              <a:tblGrid>
                <a:gridCol w="2714760"/>
                <a:gridCol w="597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Era/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Sales Force Object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Sales Force Ori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Critical tasks of salesp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Activities of salesp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Role of salesper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Focus of sales mg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2965680" y="16668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n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68920" y="2036880"/>
            <a:ext cx="25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uilding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66760" y="2401920"/>
            <a:ext cx="35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ong-term cust. &amp; seller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60640" y="2666880"/>
            <a:ext cx="577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reating new alternative by matching buyers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ith seller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62440" y="3336840"/>
            <a:ext cx="47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uilding &amp; maintaing cust.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rganizing &amp; leading sales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naging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0360" y="432756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Value cre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64240" y="4708440"/>
            <a:ext cx="38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ales team &amp; leader of sales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61360" y="5089680"/>
            <a:ext cx="541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phasis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election&amp; motivation of t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…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eveloping leadership &amp; conflict mgmt sk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…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 a/c mg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ersonal Selling &amp; The Marketing Concep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8120" y="1143000"/>
            <a:ext cx="5867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sonal Selling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-to-person communicat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133720"/>
            <a:ext cx="586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ompass info, svcs, ideas &amp;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124080"/>
            <a:ext cx="5867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sonal Selling Philoso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opt mktg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 personal s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e role of a problem solver to help cust. make buying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Black"/>
              </a:rPr>
              <a:t>Conflict Management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82240" cy="537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6400800"/>
            <a:ext cx="533412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957240"/>
            <a:ext cx="9144000" cy="54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lationship Selling vs Transaction Selling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ance of Conflict Mgmt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175248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2209680"/>
            <a:ext cx="8915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havior of fee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or both parties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the other party has the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truct, interferes with, or make less 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arty’s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reaching their goals in a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6400800"/>
            <a:ext cx="533412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957240"/>
            <a:ext cx="9144000" cy="54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lationship Selling vs Transaction Selling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ance of Conflict Mgmt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3352680"/>
            <a:ext cx="8915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ffective conflict mgm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3809880"/>
            <a:ext cx="8915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minimize negative effects of confl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amp; increase benefits the parties derive frm the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182880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flict Mgm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293920"/>
            <a:ext cx="79246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haviors parties engage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confronted w confl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Conflict Management Approach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458200" cy="56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6400800"/>
            <a:ext cx="533412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957240"/>
            <a:ext cx="9144000" cy="54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lationship Selling vs Transaction Selling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Conflict Mgmt Approache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" y="3352680"/>
            <a:ext cx="8915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ffective conflict mgm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3809880"/>
            <a:ext cx="8915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minimize negative effects of confl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amp; increase benefits the parties derive frm the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182880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flict Mgm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293920"/>
            <a:ext cx="79246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haviors parties engage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confronted w confl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6400800"/>
            <a:ext cx="533412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957240"/>
            <a:ext cx="9144000" cy="54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lationship Selling vs Transaction Selling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Conflict Mgmt Approache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04920" y="1803240"/>
          <a:ext cx="8610480" cy="4521240"/>
        </p:xfrm>
        <a:graphic>
          <a:graphicData uri="http://schemas.openxmlformats.org/drawingml/2006/table">
            <a:tbl>
              <a:tblPr/>
              <a:tblGrid>
                <a:gridCol w="2514600"/>
                <a:gridCol w="2057400"/>
                <a:gridCol w="1981080"/>
                <a:gridCol w="2057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ACTERI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rtive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e of commun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t of info provided abt perspectives &amp; go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t of sensitive info exchang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ty of signal concerning commitment to relation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"/>
          <p:cNvSpPr/>
          <p:nvPr/>
        </p:nvSpPr>
        <p:spPr>
          <a:xfrm>
            <a:off x="2819520" y="17524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voi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19520" y="21938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19520" y="272736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19520" y="32608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38862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19520" y="47242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56228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17524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commo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76920" y="21938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272736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32608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76920" y="38862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47242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76920" y="56228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17524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fro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0" y="21938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0" y="27273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0" y="3260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0" y="3886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4724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0" y="56228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6400800"/>
            <a:ext cx="533412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957240"/>
            <a:ext cx="9144000" cy="54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lationship Selling vs Transaction Selling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Conflict Mgmt Approache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04920" y="1803240"/>
          <a:ext cx="8610480" cy="4521240"/>
        </p:xfrm>
        <a:graphic>
          <a:graphicData uri="http://schemas.openxmlformats.org/drawingml/2006/table">
            <a:tbl>
              <a:tblPr/>
              <a:tblGrid>
                <a:gridCol w="2514600"/>
                <a:gridCol w="2057400"/>
                <a:gridCol w="1981080"/>
                <a:gridCol w="2057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ACTERI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rtive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e of commun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t of info provided abt perspectives &amp; go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t of sensitive info exchang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ty of signal concerning commitment to relation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2819520" y="17524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mprom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21938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19520" y="272736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19520" y="32608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38862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819520" y="47242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19520" y="56228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17524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commo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76920" y="21938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272736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76920" y="32608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76920" y="38862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47242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76920" y="56228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6400800"/>
            <a:ext cx="533412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957240"/>
            <a:ext cx="9144000" cy="54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lationship Selling vs Transaction Selling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ituational Moderator of Conflct Mgmt Effectivenes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304920" y="1803240"/>
          <a:ext cx="8610480" cy="4521240"/>
        </p:xfrm>
        <a:graphic>
          <a:graphicData uri="http://schemas.openxmlformats.org/drawingml/2006/table">
            <a:tbl>
              <a:tblPr/>
              <a:tblGrid>
                <a:gridCol w="2514600"/>
                <a:gridCol w="2057400"/>
                <a:gridCol w="1981080"/>
                <a:gridCol w="2057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ACTERI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mportance of issue to se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ommitment to relation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84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2819520" y="17524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voi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3200" y="25909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76920" y="17524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commo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0" y="17524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fro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43200" y="3352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47545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43200" y="55166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00600" y="25909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00600" y="3352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0600" y="47545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800600" y="55166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81680" y="25909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81680" y="3352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81680" y="47545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55166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6400800"/>
            <a:ext cx="533412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957240"/>
            <a:ext cx="9144000" cy="54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lationship Selling vs Transaction Selling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ituational Moderator of Conflct Mgmt Effectivenes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304920" y="1803240"/>
          <a:ext cx="8610480" cy="4521240"/>
        </p:xfrm>
        <a:graphic>
          <a:graphicData uri="http://schemas.openxmlformats.org/drawingml/2006/table">
            <a:tbl>
              <a:tblPr/>
              <a:tblGrid>
                <a:gridCol w="2514600"/>
                <a:gridCol w="2057400"/>
                <a:gridCol w="1981080"/>
                <a:gridCol w="2057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ACTERI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mportance of issue to se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6544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ommitment to relation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8784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2819520" y="17524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mprom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43200" y="25909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00600" y="17524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0" y="3352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43200" y="47545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43200" y="55166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00600" y="25909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00600" y="3352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00600" y="47545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00600" y="55166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6400800"/>
            <a:ext cx="533412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957240"/>
            <a:ext cx="9144000" cy="54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lationship Selling vs Transaction Selling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ales Mgmt – Implications of RM &amp; Team Selling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" y="3809880"/>
            <a:ext cx="8915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be cos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ort of more p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t to coordinate activities of salesp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182880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se of Sales T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293920"/>
            <a:ext cx="79246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oss-functional teams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sed team in  a district into tea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ersonal Selling &amp; The Marketing Concep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8120" y="1143000"/>
            <a:ext cx="5867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lesman today: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676520"/>
            <a:ext cx="58672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agnose cust. needs &amp;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ognize t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quality of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s impt as the quality of the pdts they s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6400800"/>
            <a:ext cx="533412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957240"/>
            <a:ext cx="9144000" cy="54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lationship Selling vs Transaction Selling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ales Mgmt – Implications of RM &amp; Team Selling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3809880"/>
            <a:ext cx="8915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itive &amp; no interdependency sales team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ht be demotivated b/c team incentives do not reward them adequately for their individual con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" y="182880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ross-functional Sales T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" y="2293920"/>
            <a:ext cx="79246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prod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6400800"/>
            <a:ext cx="533412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957240"/>
            <a:ext cx="9144000" cy="54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lationship Selling vs Transaction Selling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Knowledge, Skills &amp; Abilities Needed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" y="182880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2293920"/>
            <a:ext cx="79246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owledge of buying firm’s SW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tegies for developing strategic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3581280"/>
            <a:ext cx="7924680" cy="25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y opportunities &amp; approaches for creating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owledge of their orgn’s capabilities &amp; resourc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and ppl w/i their company tt can be access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to address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5418000"/>
            <a:ext cx="7924680" cy="25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-the-job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erior industry &amp; company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6400800"/>
            <a:ext cx="533412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957240"/>
            <a:ext cx="9144000" cy="54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lationship Selling vs Transaction Selling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Knowledge, Skills &amp; Abilities Needed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8600" y="167652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kills &amp; 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2141640"/>
            <a:ext cx="792468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ive problem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nova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2979720"/>
            <a:ext cx="792468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acting w ppl in diff functional area &amp; levels in buying &amp; selling or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lict mg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ing 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4656240"/>
            <a:ext cx="792468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ding 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ility to gain support of colleagues w/o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400800"/>
            <a:ext cx="533412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957240"/>
            <a:ext cx="9144000" cy="54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sonal Selling &amp; the Mktg Concep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volution of Personal Selling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04920" y="1803240"/>
          <a:ext cx="8610480" cy="4521240"/>
        </p:xfrm>
        <a:graphic>
          <a:graphicData uri="http://schemas.openxmlformats.org/drawingml/2006/table">
            <a:tbl>
              <a:tblPr/>
              <a:tblGrid>
                <a:gridCol w="1295280"/>
                <a:gridCol w="3657600"/>
                <a:gridCol w="3657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Sales &amp; mgmt emph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Selling emph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1600200" y="1828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28600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d 195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2590920"/>
            <a:ext cx="37339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gn determines needs &amp; wants of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target m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adapt themselves to delivering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desired satisf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dt orientation is replaced by cust.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ori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4759200"/>
            <a:ext cx="37339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re orgn recognise tt th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salesperson is in a position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llect p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kt &amp; svc inf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concerning buyer’s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1828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ul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228600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te 1960s to early 197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2590920"/>
            <a:ext cx="35053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esppl are able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dentify cust.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fer well-considered recomme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ss mkt breaking into target mk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4748040"/>
            <a:ext cx="350532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yer’s needs r identified thru 2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way 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o giving &amp; negotiation tactic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replace manip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400800"/>
            <a:ext cx="533412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957240"/>
            <a:ext cx="9144000" cy="54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sonal Selling &amp; the Mktg Concep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volution of Personal Selling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04920" y="1803240"/>
          <a:ext cx="8610480" cy="4445280"/>
        </p:xfrm>
        <a:graphic>
          <a:graphicData uri="http://schemas.openxmlformats.org/drawingml/2006/table">
            <a:tbl>
              <a:tblPr/>
              <a:tblGrid>
                <a:gridCol w="1295280"/>
                <a:gridCol w="3657600"/>
                <a:gridCol w="3657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Sales &amp; mgmt emph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Selling emph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600200" y="1828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ate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28600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arly 198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2590920"/>
            <a:ext cx="37339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re complex selling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eater emphasis on mkt ni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eater structure &amp; more emphasis o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4648320"/>
            <a:ext cx="37339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ategy is given as much attention a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selling tac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re attention on pdt positio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1828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n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228600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90 to pres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2590920"/>
            <a:ext cx="35053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esppl are able encouraged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think of everything they say or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long-term, high-quality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partne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es automation provides specific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cust. inf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4687920"/>
            <a:ext cx="35053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ust is the driving force in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tal quality relationship tt resul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in repeat business &amp; referr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6400800"/>
            <a:ext cx="533412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57240"/>
            <a:ext cx="9144000" cy="54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sonal Selling &amp; the Mktg Concep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.g. Nordstorm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ttle-based dept store cha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28600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lity of sales staff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well train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encouraged to do anything w/i reasons to satisfy cu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28600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lity of sales staff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well train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encouraged to do anything w/i reasons to satisfy cu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ktg Concep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. Satisfaction is of PRIMARY im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6400800"/>
            <a:ext cx="533412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957240"/>
            <a:ext cx="9144000" cy="54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sonal Selling &amp; the Mktg Concep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volution of Partnering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dts of orgns r becoming identical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2217600"/>
            <a:ext cx="899172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lationship S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l, customised approach to EACH cu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2209680"/>
            <a:ext cx="8915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lationship S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l, customised approach to EACH cu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. today wa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LITY p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LITY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6400800"/>
            <a:ext cx="533412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57240"/>
            <a:ext cx="9144000" cy="54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sonal Selling &amp; the Mktg Concep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volution of Partnering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905120"/>
            <a:ext cx="8839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ong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rrier to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n enjoys repeat b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refer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905120"/>
            <a:ext cx="8839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ong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rrier to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n enjoys repeat b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refer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cost 4 to 5 times more to get a NEW cust. than to KEE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ISTING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6400800"/>
            <a:ext cx="533412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957240"/>
            <a:ext cx="9144000" cy="54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sonal Selling &amp; the Mktg Concep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volution of Partnering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905120"/>
            <a:ext cx="8839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ccessful Partn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676520" y="2743200"/>
            <a:ext cx="6858000" cy="3048120"/>
            <a:chOff x="1676520" y="2743200"/>
            <a:chExt cx="6858000" cy="3048120"/>
          </a:xfrm>
        </p:grpSpPr>
        <p:sp>
          <p:nvSpPr>
            <p:cNvPr id="156" name=""/>
            <p:cNvSpPr/>
            <p:nvPr/>
          </p:nvSpPr>
          <p:spPr>
            <a:xfrm>
              <a:off x="1676520" y="2743200"/>
              <a:ext cx="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76520" y="579132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4080" y="2819160"/>
            <a:ext cx="1535400" cy="2895480"/>
            <a:chOff x="64080" y="2819160"/>
            <a:chExt cx="1535400" cy="2895480"/>
          </a:xfrm>
        </p:grpSpPr>
        <p:sp>
          <p:nvSpPr>
            <p:cNvPr id="159" name=""/>
            <p:cNvSpPr/>
            <p:nvPr/>
          </p:nvSpPr>
          <p:spPr>
            <a:xfrm flipV="1">
              <a:off x="838080" y="2819160"/>
              <a:ext cx="0" cy="2895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80" y="3654360"/>
              <a:ext cx="1535400" cy="9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Sales incre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t result f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use o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value-adde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strateg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362320" y="5991120"/>
            <a:ext cx="5638680" cy="258480"/>
            <a:chOff x="2362320" y="5991120"/>
            <a:chExt cx="5638680" cy="258480"/>
          </a:xfrm>
        </p:grpSpPr>
        <p:sp>
          <p:nvSpPr>
            <p:cNvPr id="162" name=""/>
            <p:cNvSpPr/>
            <p:nvPr/>
          </p:nvSpPr>
          <p:spPr>
            <a:xfrm>
              <a:off x="2362320" y="6095880"/>
              <a:ext cx="56386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35320" y="5991120"/>
              <a:ext cx="23403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Length of partnersh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676520" y="4800600"/>
            <a:ext cx="106668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4495680"/>
            <a:ext cx="1066680" cy="129564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809880" y="3276720"/>
            <a:ext cx="4267440" cy="2514600"/>
            <a:chOff x="3809880" y="3276720"/>
            <a:chExt cx="4267440" cy="2514600"/>
          </a:xfrm>
        </p:grpSpPr>
        <p:sp>
          <p:nvSpPr>
            <p:cNvPr id="167" name=""/>
            <p:cNvSpPr/>
            <p:nvPr/>
          </p:nvSpPr>
          <p:spPr>
            <a:xfrm>
              <a:off x="3809880" y="4191120"/>
              <a:ext cx="1067040" cy="1600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76920" y="3886200"/>
              <a:ext cx="1066680" cy="1905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43600" y="3581280"/>
              <a:ext cx="1066680" cy="22100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10280" y="3276720"/>
              <a:ext cx="1067040" cy="2514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19720" y="4572000"/>
              <a:ext cx="3124080" cy="459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ccessive S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15:54:16Z</dcterms:created>
  <dc:creator>radical</dc:creator>
  <dc:description/>
  <dc:language>en-US</dc:language>
  <cp:lastModifiedBy>radical</cp:lastModifiedBy>
  <dcterms:modified xsi:type="dcterms:W3CDTF">2002-11-03T14:13:30Z</dcterms:modified>
  <cp:revision>366</cp:revision>
  <dc:subject/>
  <dc:title>Supernova</dc:title>
</cp:coreProperties>
</file>