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3BA-44A2-48B2-B8C8-F7D71B9A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5E4-BBCB-45AE-A22C-732DF7BE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4A7-2683-47CC-BC9A-48A972AB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7EA-9534-4A5E-B2AA-ED8B1C76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3B97-A8FF-4A8B-83EE-D396057B5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EFAEE-D550-4D5F-80D0-52A91A56C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D9E8-5EDA-44A5-95AB-0BDCCA43E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C9D58-7D15-4B92-858A-75A2C5B31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5E6E-1591-4CA2-BDFE-B0820B788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5E37D-EB6B-4E44-B8B4-B0043CE6FF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998FA-2DF0-4404-9B2C-4A009000A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E00-AC77-4EF1-ACB7-41E04D2C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52A37-D7CC-46BD-ACC1-B5B0D6CFC6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CCBE1-8A3A-4891-B259-B409AA367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60DD7-4E33-41C2-B4C3-2A3D03595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F9CA4-F810-47CC-8F88-997B72D8EF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F2E41-A7E4-44F8-80F7-1925DC204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F7A-9F84-4367-9F28-4414CC9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F4F-BEEA-4603-B401-166F2BC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5FD-6917-4645-877A-45D6953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A83-C8B9-490D-B981-1D6EB94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0F9-FCC2-4CFD-9C5F-892A949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8BD-FEB9-4B32-AF09-40BB23D7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9DD-62C3-4AC6-BF50-62A26BE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mericas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43200" y="914400"/>
            <a:ext cx="0" cy="594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267080"/>
            <a:ext cx="1295280" cy="2590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874C-DC81-4329-ACEE-3E1761F94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6F8-1705-4B52-80D7-5FE14A68F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Value Chain Relationship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4: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 vs Implement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sues?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tailer not well informed of profitability of pdt for resal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 gross profit, not true profi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. goods in same store diff. Co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ice-cream vs yogu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go for range &amp; selection on off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not always be individual pd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 vs Implement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sues?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vincing the retailer for more spac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 space for slow-moving pdts is easi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e more shelf space for an entire pdt range is hard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form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pply chain contains many flow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4479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t  =&gt;&gt;  Manufacturer =&gt;&gt; 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14479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fo &lt;=&gt;            Info        &lt;=&gt; 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4479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can be used to drive supply chai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chas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o replac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cast stock reple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cast what to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ge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entory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V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intain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ier &amp; Retailer linkag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mercial transac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terpersonal exchang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relationship b/w ppl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formation exchang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intain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sons for removing pd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160020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w sales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w gross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w net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o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rong pric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w potential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ices too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intain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sons for less chance of end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ship w supplie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05740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siness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-o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ose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pplying own-brand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wn-brand suppliers to retailers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frequent contac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ive &amp; provide sales forecas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ives sales dat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stabl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times prices r high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Marks &amp; Spence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nd less in advertis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d Customer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4: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ature of a customer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ways-a-Share Relationship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e purchases to serveral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have period of non-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changeable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Office supplies, print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ature of a customer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 Lost –for Goo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d to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witching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cellation pene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up cost for new 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ing &amp; evaluating new 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Telecommunication systems, Franchises,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supply-chain perspective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0574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ling Price to Shop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514600"/>
            <a:ext cx="213372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257800"/>
            <a:ext cx="213372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200400"/>
            <a:ext cx="2133720" cy="2057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4120" y="2514600"/>
            <a:ext cx="3504960" cy="685800"/>
            <a:chOff x="5334120" y="2514600"/>
            <a:chExt cx="3504960" cy="685800"/>
          </a:xfrm>
        </p:grpSpPr>
        <p:sp>
          <p:nvSpPr>
            <p:cNvPr id="99" name=""/>
            <p:cNvSpPr/>
            <p:nvPr/>
          </p:nvSpPr>
          <p:spPr>
            <a:xfrm>
              <a:off x="5334120" y="2514600"/>
              <a:ext cx="319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0080" y="274320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ailer’s Gross Margi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334120" y="3200400"/>
            <a:ext cx="3504960" cy="1295280"/>
            <a:chOff x="5334120" y="3200400"/>
            <a:chExt cx="3504960" cy="1295280"/>
          </a:xfrm>
        </p:grpSpPr>
        <p:sp>
          <p:nvSpPr>
            <p:cNvPr id="102" name=""/>
            <p:cNvSpPr/>
            <p:nvPr/>
          </p:nvSpPr>
          <p:spPr>
            <a:xfrm>
              <a:off x="5334120" y="3200400"/>
              <a:ext cx="319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40384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er’s Added Valu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34120" y="5257800"/>
            <a:ext cx="3504960" cy="671400"/>
            <a:chOff x="5334120" y="5257800"/>
            <a:chExt cx="3504960" cy="671400"/>
          </a:xfrm>
        </p:grpSpPr>
        <p:sp>
          <p:nvSpPr>
            <p:cNvPr id="105" name=""/>
            <p:cNvSpPr/>
            <p:nvPr/>
          </p:nvSpPr>
          <p:spPr>
            <a:xfrm>
              <a:off x="5334120" y="5257800"/>
              <a:ext cx="319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4120" y="5929200"/>
              <a:ext cx="319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0080" y="533412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w Material Cos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505320" y="10666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9900"/>
                </a:solidFill>
                <a:uFillTx/>
                <a:latin typeface="Times New Roman"/>
              </a:rPr>
              <a:t>Supply-chain Cost Structure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&amp; Exclusivit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 at a good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Valu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209680"/>
            <a:ext cx="6324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  Social 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fts, ou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thank cust. &amp; building personal relationship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il? Fax? Face-to-fa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rn for one’s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ables trust &amp; comm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echnical &amp; Formal T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l-good aspects of buyer-seller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stems &amp; Mod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. adopting your system is locked to a degre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ystem comprised distinct componen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eans Modularity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e free 0r low-cost updates &amp; upgrad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 competitive advantage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to swap fading system for new &amp; improved modul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s in ppl, location, procedures,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pment &amp; etc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 quality control, training, distribution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ies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&amp; structural commitments tt binds part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barriers to exit or switch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vates parties to resolve differences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ac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romise to perform some act in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for payment or some other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rve relationship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de for joint action &amp; adjustmen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known contingenc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gn Characte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tual learning &amp; skill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over news means of doing biz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efficienc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2895480"/>
            <a:ext cx="6324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m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for coordinating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er mechanism, sharing info on inventories &amp; deliv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weekly vendor review meetings to identif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ing tt affects partn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systems &amp; pd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t new opportunities in mkts &amp; tech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057400"/>
            <a:ext cx="6324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 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contact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solve linkage break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505320"/>
            <a:ext cx="6324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  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ng cust. Together to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disclose how better you can ser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   Customer Satisfaction Survey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performance on may elements from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level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. May not complain, they switch suppliers!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tention Strategie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vc Recovery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1143000"/>
            <a:ext cx="6324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. who complain tend to be loy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on svc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ower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ssible for org to identify al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y on training &amp; empowerment of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more effective when they have power to react flexibly in any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tention Strategie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 Svc Guarante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1600200"/>
            <a:ext cx="6324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duce risk to cust. associated w purchased deci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slimming c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all orgn can off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rave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tention Strategie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ive Guarante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1600200"/>
            <a:ext cx="6324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st. does not really undertand whether svc has been carried out properly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ice of svc is high or perceived to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gative consequences of svc failure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ccess of orgn depends on repe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rgn biz is affected by word-of-m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supply-chain perspective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352680" y="2590920"/>
            <a:ext cx="1371600" cy="3429000"/>
            <a:chOff x="3352680" y="2590920"/>
            <a:chExt cx="1371600" cy="3429000"/>
          </a:xfrm>
        </p:grpSpPr>
        <p:sp>
          <p:nvSpPr>
            <p:cNvPr id="113" name=""/>
            <p:cNvSpPr/>
            <p:nvPr/>
          </p:nvSpPr>
          <p:spPr>
            <a:xfrm>
              <a:off x="3352680" y="2590920"/>
              <a:ext cx="1371600" cy="685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2680" y="5334120"/>
              <a:ext cx="1371600" cy="685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52680" y="3276720"/>
              <a:ext cx="1371600" cy="2057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3352680" y="167616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6019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647000" y="3152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ling Price to Sho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24280" y="2590920"/>
            <a:ext cx="4114800" cy="1828800"/>
            <a:chOff x="4724280" y="2590920"/>
            <a:chExt cx="4114800" cy="1828800"/>
          </a:xfrm>
        </p:grpSpPr>
        <p:sp>
          <p:nvSpPr>
            <p:cNvPr id="120" name=""/>
            <p:cNvSpPr/>
            <p:nvPr/>
          </p:nvSpPr>
          <p:spPr>
            <a:xfrm>
              <a:off x="7467480" y="3276720"/>
              <a:ext cx="1371600" cy="1143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2590920"/>
              <a:ext cx="2743200" cy="685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24280" y="3276720"/>
            <a:ext cx="4114800" cy="2057400"/>
            <a:chOff x="4724280" y="3276720"/>
            <a:chExt cx="4114800" cy="2057400"/>
          </a:xfrm>
        </p:grpSpPr>
        <p:sp>
          <p:nvSpPr>
            <p:cNvPr id="123" name=""/>
            <p:cNvSpPr/>
            <p:nvPr/>
          </p:nvSpPr>
          <p:spPr>
            <a:xfrm>
              <a:off x="7467480" y="4419720"/>
              <a:ext cx="13716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24280" y="3276720"/>
              <a:ext cx="2743200" cy="1143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5334120"/>
            <a:ext cx="4114800" cy="685800"/>
            <a:chOff x="4724280" y="5334120"/>
            <a:chExt cx="4114800" cy="685800"/>
          </a:xfrm>
        </p:grpSpPr>
        <p:sp>
          <p:nvSpPr>
            <p:cNvPr id="126" name=""/>
            <p:cNvSpPr/>
            <p:nvPr/>
          </p:nvSpPr>
          <p:spPr>
            <a:xfrm>
              <a:off x="7467480" y="5334120"/>
              <a:ext cx="1371600" cy="685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334120"/>
              <a:ext cx="2743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456000" y="19432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55160" y="253836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wn-Bra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77600" y="30621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8880" y="45100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8520" y="55008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990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9900"/>
                </a:solidFill>
                <a:uFillTx/>
                <a:latin typeface="Times New Roman"/>
              </a:rPr>
              <a:t>Branded and Own-brand Supply-chain Cost Structures</a:t>
            </a:r>
            <a:r>
              <a:rPr b="1" lang="en-US" sz="20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tention Strategie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19520" y="10663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ies of Ideal Guarante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1676520"/>
            <a:ext cx="6324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understand &amp;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cus on cust.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ingful w real penalties or pay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inv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con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3809880"/>
            <a:ext cx="274320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4" name="donald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6019920" y="2117880"/>
              <a:ext cx="2743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that’s 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all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folks!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supply-chain perspective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wn-branded Product (Role Difference)</a:t>
            </a:r>
            <a:r>
              <a:rPr b="1" lang="en-US" sz="20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60020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r S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ailer keep higher 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t is an imitation of manufactur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ding from retailer’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ower paradigm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 manufacturer’s brand is powerfu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Coca col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2280" y="586728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5960" y="5867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4952880"/>
            <a:ext cx="53352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0600" y="286380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randing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ust. Franch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1360" y="266688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ncent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uying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lternative 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79840" y="3581280"/>
            <a:ext cx="4422600" cy="1651320"/>
            <a:chOff x="3579840" y="3581280"/>
            <a:chExt cx="4422600" cy="1651320"/>
          </a:xfrm>
        </p:grpSpPr>
        <p:sp>
          <p:nvSpPr>
            <p:cNvPr id="149" name=""/>
            <p:cNvSpPr/>
            <p:nvPr/>
          </p:nvSpPr>
          <p:spPr>
            <a:xfrm rot="21161400">
              <a:off x="3580920" y="4647960"/>
              <a:ext cx="4419720" cy="3045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57600" y="35812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ower paradigm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 manufacturer’s brand is powerfu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Coca col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6668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nufacturer holds power over the retailer because of cust. franchise possessed by the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ailer needs cust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and cust. can be choosy abt which pdt they bu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may shop elsewhere if retailer is out of st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ower paradigm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 retailer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NT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2280" y="586728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5960" y="5867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4952880"/>
            <a:ext cx="53352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0600" y="286380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randing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ust. Franch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1360" y="266688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ncent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uying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lternative 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579840" y="3581280"/>
            <a:ext cx="4422960" cy="1649880"/>
            <a:chOff x="3579840" y="3581280"/>
            <a:chExt cx="4422960" cy="1649880"/>
          </a:xfrm>
        </p:grpSpPr>
        <p:sp>
          <p:nvSpPr>
            <p:cNvPr id="167" name=""/>
            <p:cNvSpPr/>
            <p:nvPr/>
          </p:nvSpPr>
          <p:spPr>
            <a:xfrm rot="435600">
              <a:off x="3581280" y="4648320"/>
              <a:ext cx="4419720" cy="3045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760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24680" y="35812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ower paradigm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 retailer is larg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NTUC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26668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 for sizeable portion of manufacturer’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retailer the ability to pressure manufacturer on price, promotion, delivery &amp;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artnership paradigm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co-oper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o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for example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ell more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 supply chain co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distribu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re cont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xample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tech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casting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5:54:16Z</dcterms:created>
  <dc:creator>radical</dc:creator>
  <dc:description/>
  <dc:language>en-US</dc:language>
  <cp:lastModifiedBy>radical</cp:lastModifiedBy>
  <dcterms:modified xsi:type="dcterms:W3CDTF">2002-10-27T14:59:50Z</dcterms:modified>
  <cp:revision>298</cp:revision>
  <dc:subject/>
  <dc:title>Supernova</dc:title>
</cp:coreProperties>
</file>