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C1B0-337B-4DF9-9947-A556F9250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523880" y="264060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4E94-94C6-47BC-B77D-51391920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03840" y="23619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23880" y="26406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03840" y="26406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A451-73FF-4FF3-9610-D047E877B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87840" y="236196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52160" y="236196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523880" y="264060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87840" y="264060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52160" y="264060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DC72-F3D9-45E8-B90F-A7FCF03D0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E14D1F-3066-41CB-B248-07DFCB5D16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3880" y="2361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B92334-4C79-4E71-9A06-2FD69EF8BC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97332-3F4A-4DA9-8204-3B83E5B9682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31233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03840" y="2361960"/>
            <a:ext cx="31233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5201A6-D834-44D9-8A5F-B1ECDBE305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5B60A-306E-4DBB-A0FE-8D09200BCB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15238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141C98-974B-474D-9A11-0D7F630B77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03840" y="2361960"/>
            <a:ext cx="31233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23880" y="26406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EC0BA7-77FE-4282-99F5-478F9E3F56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523880" y="2361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9A04-01FD-4D99-A5A9-B1E41C63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31233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3840" y="23619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03840" y="26406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7EBAC-E986-4F1E-8F2B-42E5397461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03840" y="23619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23880" y="264060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EAD388-D0B7-47BC-8D36-8437082AFD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23880" y="264060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E6DA68-9DD4-49F8-AF50-0A30CA2A32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03840" y="23619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23880" y="26406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03840" y="26406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DA494E-9408-413F-BDAC-7C55D07725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87840" y="236196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52160" y="236196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23880" y="264060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87840" y="264060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52160" y="264060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6B36C-F07C-43C2-A20E-5926D37F45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0FB1-A48A-487C-9974-3CB436EF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31233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3840" y="2361960"/>
            <a:ext cx="31233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13D0-2C9D-408D-B978-561302A0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22C4-181C-4D0C-B40E-B375A375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15238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186A-D7F3-4546-988A-6161EE78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03840" y="2361960"/>
            <a:ext cx="31233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23880" y="26406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B1D3-27A6-4E21-AFED-C3943130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31233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03840" y="23619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03840" y="26406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4D92-AD4F-4BC3-98A2-153E1759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03840" y="23619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3880" y="264060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ED05-3F68-402B-9225-3171B7E4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mericas" descr=""/>
          <p:cNvPicPr/>
          <p:nvPr/>
        </p:nvPicPr>
        <p:blipFill>
          <a:blip r:embed="rId3"/>
          <a:stretch/>
        </p:blipFill>
        <p:spPr>
          <a:xfrm>
            <a:off x="1447920" y="4267080"/>
            <a:ext cx="1295280" cy="25909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743200" y="914400"/>
            <a:ext cx="0" cy="5943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267080"/>
            <a:ext cx="1295280" cy="25909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267080"/>
            <a:ext cx="1447920" cy="1371600"/>
          </a:xfrm>
          <a:prstGeom prst="rect">
            <a:avLst/>
          </a:prstGeom>
          <a:solidFill>
            <a:srgbClr val="e874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2819520" y="99072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CE8D-0FA2-489A-8E0F-29DB86CC8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7FC5-29E2-438D-AFAF-1246D4F95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Supplier Relationships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23880" y="2361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KT 331 – Relationship Marketing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2286000"/>
            <a:ext cx="4952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solidFill>
            <a:srgbClr val="e874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29400" y="6553080"/>
            <a:ext cx="2514600" cy="30492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Week 4: 2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Oct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Managing the supply chain…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320" y="10206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upplier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19520" y="1066680"/>
            <a:ext cx="6324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   Externally integrated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rnalisation of alignmen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 supply base w demands of cu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parent system of material &amp; info e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n on flexible &amp; long-term collab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gnise impt of ext. supply-chain mgmt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to synchronise supply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ndation for successful relationship…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320" y="10206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upplier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19520" y="990720"/>
            <a:ext cx="6324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  Develop goals &amp; plans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19520" y="1600200"/>
            <a:ext cx="6324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  Avoid niche coll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209680"/>
            <a:ext cx="6324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  Structure the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2819520"/>
            <a:ext cx="6324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   Clear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3429000"/>
            <a:ext cx="6324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   Understand the cul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9520" y="4038480"/>
            <a:ext cx="6324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.   Structure learning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in-win relationships in supply chain…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320" y="10206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upplier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19520" y="1066680"/>
            <a:ext cx="6324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t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19520" y="1600200"/>
            <a:ext cx="6324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  On-going cost red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19520" y="2133720"/>
            <a:ext cx="6324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  Qua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19520" y="2666880"/>
            <a:ext cx="6324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  Increased operating flex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19520" y="3200400"/>
            <a:ext cx="6324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   More value for cust.’s cu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19520" y="3733920"/>
            <a:ext cx="6324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   Enhanced leverage w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19520" y="4191120"/>
            <a:ext cx="6324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.   Shorter design 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19520" y="4800600"/>
            <a:ext cx="6324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.   More powerful competitive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Lateral Relationship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23880" y="2361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KT 331 – Relationship Marketing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33720" y="2286000"/>
            <a:ext cx="4952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solidFill>
            <a:srgbClr val="e874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629400" y="6553080"/>
            <a:ext cx="2514600" cy="30492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Week 4: 2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Oct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-76320" y="0"/>
            <a:ext cx="9220320" cy="6858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ortance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rategic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lli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-76320" y="0"/>
            <a:ext cx="9220320" cy="160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-76320" y="1600200"/>
            <a:ext cx="495324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What is strategic alliance…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320" y="10206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Lateral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819520" y="106668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eation &amp; maintenance of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..inter-organisational links b/w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..orgn &amp; other orgn not in the value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in.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hy orgn engage in strategic alliance…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19520" y="990720"/>
            <a:ext cx="6324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  Develop new mkts for existing pd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19520" y="1600200"/>
            <a:ext cx="6324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  Develop new pdts for existing mk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19520" y="2209680"/>
            <a:ext cx="6324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  Enter into new pdt-mkt dom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19520" y="2819520"/>
            <a:ext cx="6324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   Promote present pdt offerings in its present mk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320" y="10206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Lateral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hy orgn engage in strategic alliance…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990720"/>
            <a:ext cx="6324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ivation to competitive advan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19520" y="1600200"/>
            <a:ext cx="6324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Entering new int'l mk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2286000"/>
            <a:ext cx="6324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Reduce barriers to enter n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ternational mk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19520" y="3429000"/>
            <a:ext cx="6324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Protect competitive position in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k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19520" y="4572000"/>
            <a:ext cx="6324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 Broaden pdt line/file pdt ga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19520" y="5334120"/>
            <a:ext cx="6324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 Enter new mkts to gain a foothold in emerging indus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320" y="10206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Lateral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hy orgn engage in strategic alliance…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19520" y="990720"/>
            <a:ext cx="6324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ivation to competitive advan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600200"/>
            <a:ext cx="6324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. Shaping industry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19520" y="2286000"/>
            <a:ext cx="6324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. Reduce potential threats of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e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3429000"/>
            <a:ext cx="6324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. Increase entry barr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19520" y="4191120"/>
            <a:ext cx="6324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. Enhance efficiency of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876920"/>
            <a:ext cx="6324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. Accquire new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320" y="10206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Lateral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Building a successful strategic alliance…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8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19520" y="990720"/>
            <a:ext cx="6324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cessful alliance 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19520" y="1600200"/>
            <a:ext cx="6324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Shared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19520" y="2286000"/>
            <a:ext cx="6324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Comittment of resources from both pa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19520" y="3429000"/>
            <a:ext cx="6324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Committment towards all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320" y="10206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Lateral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-76320" y="0"/>
            <a:ext cx="9220320" cy="6858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ortance of build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rong Relationship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Suppli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-76320" y="0"/>
            <a:ext cx="9220320" cy="160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211400" y="1571760"/>
            <a:ext cx="2043000" cy="2085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192480" y="1523880"/>
            <a:ext cx="2895480" cy="2133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059520" y="1600200"/>
            <a:ext cx="1789200" cy="20574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hat are the benefits…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990720"/>
            <a:ext cx="6324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tical benefi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broad categorie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kt-rel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tn efficiency/oper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71800" y="2971800"/>
            <a:ext cx="6324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Profit/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Mkt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Domestic cust./suppl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Pdt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Overseas cust/suppl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Pdtn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Qu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943600" y="2971800"/>
            <a:ext cx="6324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Bargaining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Delivery/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Work practices/pd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Pdtn fac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Mgm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Access to fi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320" y="10206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Lateral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hat are the barriers…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819520" y="990720"/>
            <a:ext cx="6324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ediments to allian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971800" y="1523880"/>
            <a:ext cx="6324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Lack of tr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320" y="10206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Lateral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71800" y="1981080"/>
            <a:ext cx="6324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Fear of losing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971800" y="2438280"/>
            <a:ext cx="6324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Time commi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71800" y="2895480"/>
            <a:ext cx="6324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Trade secr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971800" y="3352680"/>
            <a:ext cx="6324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Admin/leg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3809880"/>
            <a:ext cx="6324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Mismatching of fi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971800" y="4267080"/>
            <a:ext cx="6324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971800" y="4800600"/>
            <a:ext cx="6324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ms with the most problems usually obtain the m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Regard cooperation as a way to do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Have greater commi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62520" y="3809880"/>
            <a:ext cx="2743200" cy="1371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26" name="donald6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6019920" y="2117880"/>
              <a:ext cx="274320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Arial Black"/>
                </a:rPr>
                <a:t>that’s </a:t>
              </a:r>
              <a:br>
                <a:rPr sz="6000"/>
              </a:br>
              <a:r>
                <a:rPr b="0" lang="en-US" sz="6000" spc="-1" strike="noStrike">
                  <a:solidFill>
                    <a:srgbClr val="ffffff"/>
                  </a:solidFill>
                  <a:latin typeface="Arial Black"/>
                </a:rPr>
                <a:t>all</a:t>
              </a:r>
              <a:br>
                <a:rPr sz="6000"/>
              </a:br>
              <a:r>
                <a:rPr b="0" lang="en-US" sz="6000" spc="-1" strike="noStrike">
                  <a:solidFill>
                    <a:srgbClr val="ffffff"/>
                  </a:solidFill>
                  <a:latin typeface="Arial Black"/>
                </a:rPr>
                <a:t>folks!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Why build stronger relationships…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320" y="10206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upplier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19520" y="106668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results in competitive advantage…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. Efficient in procurement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19520" y="2209680"/>
            <a:ext cx="63244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. More effective implementing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3124080"/>
            <a:ext cx="63244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.  Technologies enable orgn to identify best suppli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4038480"/>
            <a:ext cx="63244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.  O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gn is forced to enhance supplier relationship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trategic outsourcing…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320" y="10206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upplier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19520" y="106668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ss sub-contract, more outsourcing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1752480"/>
            <a:ext cx="63244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.  Cost advantag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lier do it for lesse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19520" y="3124080"/>
            <a:ext cx="63244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Value advantag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lier can do it in different wa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thus creates value for or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Developing the relationship…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10206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upplier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19520" y="1066680"/>
            <a:ext cx="6324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rk more closely w suppl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lan &amp; formulate strategy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09680"/>
            <a:ext cx="63244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resul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responsive supply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ility &amp; timely in meeting de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r pdt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 inven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t/process inno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Developing the relationship…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320" y="10206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upplier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19520" y="1066680"/>
            <a:ext cx="6324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reate supplier assoc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1676520"/>
            <a:ext cx="63244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benchm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rn from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rn from or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rn from end-cu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Managing the supply chain…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320" y="10206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upplier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1066680"/>
            <a:ext cx="6324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pply chain mgm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suppliers, distributors &amp; custo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chieve greater customer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lesser co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Managing the supply chain…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10206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upplier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1066680"/>
            <a:ext cx="6324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n adopting supply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n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19520" y="2209680"/>
            <a:ext cx="6324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seline or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ivated to maximise pro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functional spec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not adapt quickly to changes in consumer m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ability to exploit materials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ability to exploit mkt 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Managing the supply chain…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"/>
          <p:cNvSpPr/>
          <p:nvPr/>
        </p:nvSpPr>
        <p:spPr>
          <a:xfrm>
            <a:off x="5257800" y="64134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10206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upplier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19520" y="914400"/>
            <a:ext cx="6324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  Functionally integrated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te on cust. Svc &amp; sales order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t in distributio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2590920"/>
            <a:ext cx="6324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  Internally integrated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ucture &amp; align activities to create systems approach to cust. Sv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admin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grate dept to optimise info e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mited interaction w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dt foc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oss-functional mgm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3T15:54:16Z</dcterms:created>
  <dc:creator>radical</dc:creator>
  <dc:description/>
  <dc:language>en-US</dc:language>
  <cp:lastModifiedBy>radical</cp:lastModifiedBy>
  <dcterms:modified xsi:type="dcterms:W3CDTF">2002-10-19T15:07:11Z</dcterms:modified>
  <cp:revision>245</cp:revision>
  <dc:subject/>
  <dc:title>Supernova</dc:title>
</cp:coreProperties>
</file>