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222-5BEF-444E-A2DE-B9C3E3E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520-3663-4593-84BE-09353D5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40-6111-4E62-A868-8C1F2063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81B-2AAE-4711-B9BA-7B067512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2C599-A42A-42EE-9D83-EAD35376A3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03851-2F94-41B6-A28B-551F31EA3B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CCAE2-CB6E-4959-B48C-316577432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3727D-9B2D-47AB-9EC7-FDF4A9196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0DA9F-DBD5-4803-BEB5-04F83D16A2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1EF91-D165-4847-9567-EEB9093B7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5ED6-EBC6-4F3E-AFDC-6B34F3EF5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0A1-975D-498A-8D95-EFD46B26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47F56-AEFD-4F4E-9F75-4C24C7339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037DC-CC35-467E-877C-0B0BE162F4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10159-5D19-4EDE-80E8-0EB8BFF4B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23BB4-0E3D-4896-A47C-DF1CEBF2E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84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2160" y="23619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388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84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2160" y="26406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78265-D064-42F2-9703-316ADBDA3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A1F-64D7-4DD7-B376-26FAE51A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CE8-BFA5-40CE-8518-6D6FE6A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3E7-9C5A-4B4E-8F12-87A2DE8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ABA-9DC5-49CD-9779-0672EA89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5A7-35A4-4710-BB3E-F0C6CF4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3840" y="26406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A2B-4223-4B00-A781-F2514BE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23619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26406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DCB-7CAC-402C-97D9-20FE0A0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mericas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43200" y="914400"/>
            <a:ext cx="0" cy="594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267080"/>
            <a:ext cx="1295280" cy="2590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76C1-34A6-4054-B50A-4B7EDE00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F20-9B6E-4BFB-9C0A-8CF83534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KT 331 – Relationship Market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971800"/>
            <a:ext cx="533520" cy="175248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971800"/>
            <a:ext cx="175248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553080"/>
            <a:ext cx="2514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eek 1: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vels of Customer Bond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520" y="25142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d/Company                      Custom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dependence of business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information shar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levels of trus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pera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wil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-to-person contac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tor &amp; Pati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wyer &amp; Cli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143000"/>
            <a:ext cx="1447920" cy="9907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7432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erspective to marketing…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&amp; Industrial Focu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nce ag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advis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259092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 Retention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 existing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-selling, Cross-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19520" y="3733920"/>
            <a:ext cx="6324480" cy="1143000"/>
            <a:chOff x="2819520" y="3733920"/>
            <a:chExt cx="6324480" cy="1143000"/>
          </a:xfrm>
        </p:grpSpPr>
        <p:sp>
          <p:nvSpPr>
            <p:cNvPr id="198" name=""/>
            <p:cNvSpPr/>
            <p:nvPr/>
          </p:nvSpPr>
          <p:spPr>
            <a:xfrm>
              <a:off x="2819520" y="3733920"/>
              <a:ext cx="6324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14400" indent="-45720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ket-based As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295280" indent="-3808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yal customers                 Repeat 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295280" indent="-3808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arder for new 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295280" indent="-3808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ves company competitive advan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295280" indent="-3808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4343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ty develops with repeat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and social bonds develo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bonds is a barrier for competito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witching cost to customers if supplier chang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opportunities to cross-sel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relationship enables customer and supplier to share inform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can be used to identify opportunities to sell other products or servic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often suggest to seller ways to serve their need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aper &amp; less risky to retain a custome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expensive to acquire new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er to spend the time and money to know existing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le to understand customers bette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customer information not available to competition (not close to customer)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of better understanding customer and how to satisfy their need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provide tailored products &amp; servic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 competitive advantag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 of mouth suppor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&amp; satisfied customer recommends products or servic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recommendation is a STRONG &amp; EFFECTIVE advertising too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&amp; services rely heavily on recommenda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nefits of Building Relations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d co-opera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ustomer value relationship, they will want it to be successfu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takes &amp; conflicts are reduc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damental Value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ng-term collaboration &amp; win-wi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collaboration &amp; creation of mutual valu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customers, suppliers &amp; others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ner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ing the duration of the relationship becomes a major marketing goal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iscourag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defectio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retention marke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isting customers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attraction marke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ew customers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damental Value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ognizing all parties be activ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interactive relationship within all parties; customers, suppliers and other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active relationship creates value for the customer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19520" y="990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ship marketing defined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16765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s to all marketing activities directed at establishing, developing and maintaining successful relational exchanges in suppliers, lateral, buyer and internal partner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ttracting, maintaining and – in multi-service organisations – enhancing custom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s to all marketing activities directed towards establishing and maintaining successful relational ex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damental Value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ship and service values instead of bureaucratic-legal valu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reaucratic-legal valu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, Legal jarg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of dysfunctional law and regulation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internal routin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 in supplier as the expert and customer as ignora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terest in rituals than resul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(s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cost and residual of system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masses and statistical averages, not individual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generates co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to win over (persuade/convince) customer over a disput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damental Value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ionship and service values instead of bureaucratic-legal values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 and services valu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ustomers are individuals and differen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come is the only concer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are source of revenue and should be in focu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’s focus is to create value for the customer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011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Properties of Relationships, Networks and Interac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520" y="99036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447920"/>
            <a:ext cx="632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mitment, dependency and impor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28600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ust, risk and uncertain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74320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320040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ngev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358128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equency, regularity and inten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03848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oseness and remot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449568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lity, informality and open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495288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5791320"/>
            <a:ext cx="632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sonal &amp; social proper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1447920"/>
            <a:ext cx="4191120" cy="41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10080" y="1933560"/>
            <a:ext cx="4619520" cy="3200400"/>
            <a:chOff x="3610080" y="1933560"/>
            <a:chExt cx="4619520" cy="3200400"/>
          </a:xfrm>
        </p:grpSpPr>
        <p:sp>
          <p:nvSpPr>
            <p:cNvPr id="261" name=""/>
            <p:cNvSpPr/>
            <p:nvPr/>
          </p:nvSpPr>
          <p:spPr>
            <a:xfrm>
              <a:off x="3610080" y="1933560"/>
              <a:ext cx="3200400" cy="32004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280" y="198108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cial mkt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38480" y="2362320"/>
            <a:ext cx="4191120" cy="2361960"/>
            <a:chOff x="4038480" y="2362320"/>
            <a:chExt cx="4191120" cy="2361960"/>
          </a:xfrm>
        </p:grpSpPr>
        <p:sp>
          <p:nvSpPr>
            <p:cNvPr id="264" name=""/>
            <p:cNvSpPr/>
            <p:nvPr/>
          </p:nvSpPr>
          <p:spPr>
            <a:xfrm>
              <a:off x="4038480" y="2362320"/>
              <a:ext cx="2362320" cy="23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280" y="240984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assic mkt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495680" y="2819520"/>
            <a:ext cx="3810240" cy="1371600"/>
            <a:chOff x="4495680" y="2819520"/>
            <a:chExt cx="3810240" cy="1371600"/>
          </a:xfrm>
        </p:grpSpPr>
        <p:sp>
          <p:nvSpPr>
            <p:cNvPr id="267" name=""/>
            <p:cNvSpPr/>
            <p:nvPr/>
          </p:nvSpPr>
          <p:spPr>
            <a:xfrm>
              <a:off x="4495680" y="2819520"/>
              <a:ext cx="1371600" cy="1371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00600" y="297180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no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ssic market relationship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-custom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-customer-competito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istribution network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assic dya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assic tria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assic network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553080" y="3733920"/>
            <a:ext cx="2279520" cy="2279520"/>
            <a:chOff x="6553080" y="3733920"/>
            <a:chExt cx="2279520" cy="2279520"/>
          </a:xfrm>
        </p:grpSpPr>
        <p:sp>
          <p:nvSpPr>
            <p:cNvPr id="274" name=""/>
            <p:cNvSpPr/>
            <p:nvPr/>
          </p:nvSpPr>
          <p:spPr>
            <a:xfrm>
              <a:off x="6553080" y="3733920"/>
              <a:ext cx="2279520" cy="2279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18040" y="3997440"/>
              <a:ext cx="1739880" cy="1741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49880" y="4230720"/>
              <a:ext cx="1285920" cy="1285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99360" y="4480200"/>
              <a:ext cx="745920" cy="745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86728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 market 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in the service count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as member of loyalty programm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s via full-time mkt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ervice encount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any-headed customer &amp; the many-headed suppli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lationship to the customer’s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ose vs the dista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lationship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satisfied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nopoly relationshi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customer or suppli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prison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940440" y="4121280"/>
            <a:ext cx="2127240" cy="2127240"/>
            <a:chOff x="6940440" y="4121280"/>
            <a:chExt cx="2127240" cy="2127240"/>
          </a:xfrm>
        </p:grpSpPr>
        <p:sp>
          <p:nvSpPr>
            <p:cNvPr id="284" name=""/>
            <p:cNvSpPr/>
            <p:nvPr/>
          </p:nvSpPr>
          <p:spPr>
            <a:xfrm>
              <a:off x="6940440" y="4121280"/>
              <a:ext cx="2127240" cy="2127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7760" y="4366800"/>
              <a:ext cx="1623240" cy="162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04120" y="4584960"/>
              <a:ext cx="1199160" cy="1199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6680" y="4817520"/>
              <a:ext cx="695880" cy="695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market relationships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The customer as ‘member’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The electronic relationship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Parasocial relationship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The non-commercial relationship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 The green relationship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The law-based relationship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 The criminal network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40440" y="4121280"/>
            <a:ext cx="2127240" cy="2127240"/>
            <a:chOff x="6940440" y="4121280"/>
            <a:chExt cx="2127240" cy="2127240"/>
          </a:xfrm>
        </p:grpSpPr>
        <p:sp>
          <p:nvSpPr>
            <p:cNvPr id="293" name=""/>
            <p:cNvSpPr/>
            <p:nvPr/>
          </p:nvSpPr>
          <p:spPr>
            <a:xfrm>
              <a:off x="6940440" y="4121280"/>
              <a:ext cx="2127240" cy="2127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87760" y="4366800"/>
              <a:ext cx="1623240" cy="162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04120" y="4584960"/>
              <a:ext cx="1199160" cy="1199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36680" y="4817520"/>
              <a:ext cx="695880" cy="695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ga  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 above market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platform for mktg relationship and concern the economy &amp; society in genera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al &amp; social network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 mkt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iances change the mkt mechanism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knowledge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 alliances change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conditions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ass medi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4038480"/>
            <a:ext cx="2127240" cy="2127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05680" y="4284720"/>
            <a:ext cx="1623960" cy="1625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21680" y="4502160"/>
            <a:ext cx="1199880" cy="1200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4960" y="4735440"/>
            <a:ext cx="695160" cy="695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0Rs of 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no 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 below market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 inside the organisa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activities that influence external relationship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kt mechanism are brought inside the compan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l customer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providing a relationship b/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mgmt and mkt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l mktg: relationshi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 the ‘employee’ mk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2-dimensional matr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wner and financi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4197240"/>
            <a:ext cx="2127240" cy="2127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05680" y="4443480"/>
            <a:ext cx="1623960" cy="1625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21680" y="4660920"/>
            <a:ext cx="1199880" cy="1200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4960" y="4894200"/>
            <a:ext cx="695160" cy="695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vs Transactional Marke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95480" y="1143000"/>
          <a:ext cx="6096240" cy="510228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us on single s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ret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entation on pdt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t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time-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emphasis on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emphasi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ed customer commi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ate customer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y is concern of 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concern of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 customer may not be a repeat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 repeat customer may not be a loyal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customer; high cost of switch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acks history &amp;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No sentiment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p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purchase) to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s 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current customers) to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o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loyalty i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mphas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8560" y="12952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066680"/>
            <a:ext cx="38124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6002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8954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13372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44792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36232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38560" y="379728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213372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1523880"/>
            <a:ext cx="38124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81952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50532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28954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752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3716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86400" y="175212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5146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600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8098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143000"/>
            <a:ext cx="33526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18288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236196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7524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1295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809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752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22860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2860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715000" y="167652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62920" y="33526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8880" y="434340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work of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Ori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35560" y="3216240"/>
            <a:ext cx="2193840" cy="21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54520" y="3139920"/>
            <a:ext cx="2194200" cy="219420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073240"/>
            <a:ext cx="2194200" cy="2193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22320" y="41911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15280" y="24382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63600" y="4235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92680" y="3635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Ori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le of customer servi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bonds with customers and other markets to ensure long-term relationships of mutual advantag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 that provides time and place utilities for custom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pre-transaction, transaction, post-transa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customer service = understanding what the customers buys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-add to the pdts or sv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298280" y="4800600"/>
            <a:ext cx="1679760" cy="1474920"/>
            <a:chOff x="7298280" y="4800600"/>
            <a:chExt cx="1679760" cy="1474920"/>
          </a:xfrm>
        </p:grpSpPr>
        <p:sp>
          <p:nvSpPr>
            <p:cNvPr id="332" name=""/>
            <p:cNvSpPr/>
            <p:nvPr/>
          </p:nvSpPr>
          <p:spPr>
            <a:xfrm>
              <a:off x="7359480" y="5305320"/>
              <a:ext cx="970200" cy="97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97680" y="5272200"/>
              <a:ext cx="970200" cy="9698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8080" y="4800600"/>
              <a:ext cx="970200" cy="9698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8280" y="56894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88960" y="5049720"/>
              <a:ext cx="55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74600" y="565164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90480" y="547200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895480" y="5486400"/>
            <a:ext cx="12193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Ori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le of quali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quality during the process of produc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ktg, in liaison with operations and personnel mgrs, to get quality planning cycle and communications righ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, from RM perspective, must be perceived from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point of customer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298280" y="4800600"/>
            <a:ext cx="1679760" cy="1474920"/>
            <a:chOff x="7298280" y="4800600"/>
            <a:chExt cx="1679760" cy="1474920"/>
          </a:xfrm>
        </p:grpSpPr>
        <p:sp>
          <p:nvSpPr>
            <p:cNvPr id="345" name=""/>
            <p:cNvSpPr/>
            <p:nvPr/>
          </p:nvSpPr>
          <p:spPr>
            <a:xfrm>
              <a:off x="7359480" y="5305320"/>
              <a:ext cx="970200" cy="97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7680" y="5272200"/>
              <a:ext cx="970200" cy="9698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88080" y="4800600"/>
              <a:ext cx="970200" cy="9698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98280" y="56894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88960" y="5049720"/>
              <a:ext cx="55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74600" y="565164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480" y="547200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895480" y="5486400"/>
            <a:ext cx="121932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Ori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le of market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 of perceiving, understanding, stimulating and satisfying needs of target mkts by channeling an orgn’s resources to meet those need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cerned with the dynamic interrelationships b/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any’s pdts &amp; sv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ustomer’s wants &amp; need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ctivities of competi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298280" y="4800600"/>
            <a:ext cx="1679760" cy="1474920"/>
            <a:chOff x="7298280" y="4800600"/>
            <a:chExt cx="1679760" cy="1474920"/>
          </a:xfrm>
        </p:grpSpPr>
        <p:sp>
          <p:nvSpPr>
            <p:cNvPr id="358" name=""/>
            <p:cNvSpPr/>
            <p:nvPr/>
          </p:nvSpPr>
          <p:spPr>
            <a:xfrm>
              <a:off x="7359480" y="5305320"/>
              <a:ext cx="970200" cy="97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97680" y="5272200"/>
              <a:ext cx="970200" cy="9698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88080" y="4800600"/>
              <a:ext cx="970200" cy="9698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98280" y="56894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8960" y="5049720"/>
              <a:ext cx="55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74600" y="565164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90480" y="547200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895480" y="5486400"/>
            <a:ext cx="1219320" cy="12193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 Ori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le of marketing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tg framewor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ktg mi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kt for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tching procces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298280" y="4800600"/>
            <a:ext cx="1679760" cy="1474920"/>
            <a:chOff x="7298280" y="4800600"/>
            <a:chExt cx="1679760" cy="1474920"/>
          </a:xfrm>
        </p:grpSpPr>
        <p:sp>
          <p:nvSpPr>
            <p:cNvPr id="371" name=""/>
            <p:cNvSpPr/>
            <p:nvPr/>
          </p:nvSpPr>
          <p:spPr>
            <a:xfrm>
              <a:off x="7359480" y="5305320"/>
              <a:ext cx="970200" cy="97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97680" y="5272200"/>
              <a:ext cx="970200" cy="9698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88080" y="4800600"/>
              <a:ext cx="970200" cy="9698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8280" y="56894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88960" y="5049720"/>
              <a:ext cx="55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74600" y="565164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0480" y="547200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4792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2506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296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50212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477120" y="517356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01000" y="311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1820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88360" y="2133720"/>
            <a:ext cx="969840" cy="96984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66824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2811600"/>
            <a:ext cx="12956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477120" y="2887560"/>
            <a:ext cx="121896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419720" y="1897200"/>
            <a:ext cx="129528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00800" y="1897200"/>
            <a:ext cx="137160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25830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648320" y="380160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00440" y="2735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380196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3920" y="2077920"/>
            <a:ext cx="969840" cy="97020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95840" y="3193920"/>
            <a:ext cx="970200" cy="9702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95840" y="1295280"/>
            <a:ext cx="970200" cy="97020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83240" y="5049720"/>
            <a:ext cx="969840" cy="970200"/>
          </a:xfrm>
          <a:prstGeom prst="ellipse">
            <a:avLst/>
          </a:prstGeom>
          <a:solidFill>
            <a:srgbClr val="80008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4267080"/>
            <a:ext cx="969840" cy="97020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88360" y="4267080"/>
            <a:ext cx="969840" cy="9702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354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56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1592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91520" y="243036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3421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54021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45640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415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4 Ps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dt or svc being produced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ce charged and terms associated with its sal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ion and communication activities associated with marketing the pd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tribution &amp; logistics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needs to be conside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king the pdt or sv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451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ing customer expecta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is more demanding and sophisticated toda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importance of customer servic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changing customer expectation, customer service is used as pdt/svc differentia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ed for relationship strateg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service should be a central role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value proposition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487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895480" y="1752480"/>
          <a:ext cx="6096240" cy="3047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olved with conventional mktg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directly involved with mktg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quency or periodic customer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equent of no customer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luen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19520" y="106668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loyee influence on custom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524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o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frequent or periodic customer contac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ily involved with conventional mktg activi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selling or cust. scv  rol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versed in mktg strategies of firm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well trained, prepared and motivated to serve custome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ve to customer need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d and rewarded on this basi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broad groups an organisation ca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relationship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Partn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Channel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Relationship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Custom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560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directly involved with conventional mktg activi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frequent customer conta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receptionist, credit department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view of mktg strategies of firm to be responsive to customer need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velop high level of customer relationship skill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and monitoring performance is importa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596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uenc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d in conventional mktg mix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nfrequent or no customer conta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&amp;D, MR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firm’s relationship mktg strateg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customer oriented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632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lateds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the support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urchasing, IT, accounting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or no customer contac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or no involvement in conventional mktg activi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taff activities critically affect performance of organisation’s activiti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sensitive internal and external customer need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understand overall company’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tg strategy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how their fun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e to the quality of pdt/svc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Expanded Marketing M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710480" y="4876920"/>
            <a:ext cx="1356840" cy="1428480"/>
            <a:chOff x="7710480" y="4876920"/>
            <a:chExt cx="1356840" cy="1428480"/>
          </a:xfrm>
        </p:grpSpPr>
        <p:sp>
          <p:nvSpPr>
            <p:cNvPr id="668" name=""/>
            <p:cNvSpPr/>
            <p:nvPr/>
          </p:nvSpPr>
          <p:spPr>
            <a:xfrm>
              <a:off x="7981920" y="58356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81920" y="520884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35760" y="5334120"/>
              <a:ext cx="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40160" y="589824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483040" y="5940000"/>
              <a:ext cx="3549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00640" y="537588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03920" y="5020920"/>
              <a:ext cx="313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760240" y="5106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961040" y="4979160"/>
              <a:ext cx="2923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40160" y="5292360"/>
              <a:ext cx="354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483040" y="5313240"/>
              <a:ext cx="3340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19280" y="5041800"/>
              <a:ext cx="35496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62160" y="5041800"/>
              <a:ext cx="3758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61040" y="5229720"/>
              <a:ext cx="354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981920" y="5563800"/>
              <a:ext cx="2923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62160" y="5271480"/>
              <a:ext cx="3132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62160" y="5563800"/>
              <a:ext cx="334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31360" y="50911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41480" y="5397120"/>
              <a:ext cx="265680" cy="2656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41480" y="487692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38240" y="5906160"/>
              <a:ext cx="265680" cy="26568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31360" y="5691600"/>
              <a:ext cx="265680" cy="265680"/>
            </a:xfrm>
            <a:prstGeom prst="ellipse">
              <a:avLst/>
            </a:prstGeom>
            <a:solidFill>
              <a:srgbClr val="00008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60240" y="5691600"/>
              <a:ext cx="265680" cy="265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10480" y="516564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2040" y="5771880"/>
              <a:ext cx="189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11960" y="4957920"/>
              <a:ext cx="3330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34320" y="518616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11960" y="545940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11960" y="6000480"/>
              <a:ext cx="33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34320" y="5771880"/>
              <a:ext cx="33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895480" y="5811840"/>
            <a:ext cx="970200" cy="969840"/>
          </a:xfrm>
          <a:prstGeom prst="ellipse">
            <a:avLst/>
          </a:prstGeom>
          <a:solidFill>
            <a:srgbClr val="80008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work activity is a proces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s procedures, task schedules, mechanism, activities and routines by which a pdt/svc is delivered to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s policy decisions abt customer involvement and employee discretio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Forces &amp; The Matching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19520" y="1876320"/>
            <a:ext cx="33526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140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29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94000" y="3156120"/>
            <a:ext cx="0" cy="73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98840" y="4264200"/>
            <a:ext cx="61596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565160" y="4344840"/>
            <a:ext cx="6987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86320" y="32385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06920" y="2540160"/>
            <a:ext cx="615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10200" y="2708280"/>
            <a:ext cx="522360" cy="52236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540240" y="2458800"/>
            <a:ext cx="57456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98840" y="3073320"/>
            <a:ext cx="698400" cy="13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565520" y="3114720"/>
            <a:ext cx="65736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457080" y="2581200"/>
            <a:ext cx="698760" cy="13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24480" y="2581200"/>
            <a:ext cx="739800" cy="13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40240" y="2951280"/>
            <a:ext cx="69840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581280" y="3606840"/>
            <a:ext cx="574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524120" y="3032280"/>
            <a:ext cx="61596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24480" y="3606840"/>
            <a:ext cx="65700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89160" y="2678040"/>
            <a:ext cx="522360" cy="52236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91040" y="3279600"/>
            <a:ext cx="522360" cy="5223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91040" y="2257560"/>
            <a:ext cx="522360" cy="52200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84560" y="4278240"/>
            <a:ext cx="522360" cy="522360"/>
          </a:xfrm>
          <a:prstGeom prst="ellipse">
            <a:avLst/>
          </a:prstGeom>
          <a:solidFill>
            <a:srgbClr val="80008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89160" y="3857760"/>
            <a:ext cx="522360" cy="522000"/>
          </a:xfrm>
          <a:prstGeom prst="ellipse">
            <a:avLst/>
          </a:prstGeom>
          <a:solidFill>
            <a:srgbClr val="00008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10200" y="3857760"/>
            <a:ext cx="522360" cy="522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98720" y="282744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89160" y="4016520"/>
            <a:ext cx="5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32360" y="241776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57640" y="286848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336240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71880" y="4390920"/>
            <a:ext cx="8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57640" y="401652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15000" y="1876320"/>
            <a:ext cx="33526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15200" y="3247920"/>
            <a:ext cx="522360" cy="522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09840"/>
            <a:ext cx="125748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0" y="4467240"/>
            <a:ext cx="125748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&amp; Regul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3324240"/>
            <a:ext cx="761760" cy="3985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ustrial Behavi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153280" y="3324240"/>
            <a:ext cx="8384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43800" y="2714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59800" y="34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23240" y="34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569360" y="378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67680" y="3308400"/>
            <a:ext cx="65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arket Fo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19520" y="5533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s of marketing m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81480" y="502920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gree of match between Internal &amp; Extern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20120" y="5562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et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29000" y="1371600"/>
            <a:ext cx="2133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77120" y="1371600"/>
            <a:ext cx="2133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rn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Forces &amp; The Matching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ortant forces acting on the mkt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stom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dustry’s behaviou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&amp; Regulator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t forces are controllable w/i the orgn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t forces in ext. environment are largely uncontrollabl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581280" y="1905120"/>
            <a:ext cx="4419720" cy="3581280"/>
            <a:chOff x="3581280" y="1905120"/>
            <a:chExt cx="4419720" cy="3581280"/>
          </a:xfrm>
        </p:grpSpPr>
        <p:sp>
          <p:nvSpPr>
            <p:cNvPr id="758" name=""/>
            <p:cNvSpPr/>
            <p:nvPr/>
          </p:nvSpPr>
          <p:spPr>
            <a:xfrm flipH="1">
              <a:off x="4495320" y="2895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95680" y="28954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10280" y="2895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86400" y="4952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81480" y="1905120"/>
              <a:ext cx="1143000" cy="114300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rk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8000" y="2590920"/>
              <a:ext cx="1143000" cy="114300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fer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r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1280" y="2666880"/>
              <a:ext cx="1143000" cy="114300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flue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r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43400" y="4343400"/>
              <a:ext cx="1143000" cy="114300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recruitment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7120" y="4267080"/>
              <a:ext cx="1143000" cy="114300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r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57800" y="3581280"/>
              <a:ext cx="10666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stomer marke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ocus of mkt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gaining new customer, ongoing mktg activity is directed at existing customer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ompanies secure a customer, then turn their attention to seek new customer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don’t see the importance of maintaining &amp; enhancing relationships with their existing customers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773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819520" y="41911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ral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 form of mk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existing customer we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opportunitie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refer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lier marke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ms typically try to extract the best price from supplier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result in variability in supply &amp; quality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irms view suppliers as collaborato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adopt a co-makership relationship,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 include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iability in agreemen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ligations to deliver on time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ility in deliveries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optimal pd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the lowest cos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789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lier marke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ms typically try to extract the best price from suppliers…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result in variability in supply &amp; quality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irms view suppliers as collaborator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804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895480" y="1676520"/>
          <a:ext cx="6096240" cy="4572000"/>
        </p:xfrm>
        <a:graphic>
          <a:graphicData uri="http://schemas.openxmlformats.org/drawingml/2006/table">
            <a:tbl>
              <a:tblPr/>
              <a:tblGrid>
                <a:gridCol w="2438640"/>
                <a:gridCol w="3657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in service indus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ighly relevant in service &amp; industrial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industries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reat deal of person-to-person contact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between buyer &amp; se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ing growth in western mark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Less new customer in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Focus shifted to satisfy &amp; retain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xisting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er product lifecyc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asing competition through increasing deregulation and international expa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ncreased customer choices with new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products; less loyal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lationship with customers 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entive to s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rotect against competition from new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ives time for competitive re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ends that have lead to the growth of RM: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lier markets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-makership approach can have an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n a no. of areas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 specification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x &amp; volume flexibilit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819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819520" y="373392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ploye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ies need to attract motivated &amp; train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ms must have the availabi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killed ppl to work i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n than availability of o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(raw material, cap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luence marke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finance markets, regulatory mkts and the governm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835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2819520" y="2286000"/>
            <a:ext cx="6324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al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erson working w/i an orgn has both supplier &amp; custom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rn with getting the staff to recognise both individuals &amp; depts have customers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then determine what can be done to improve customer s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rket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819520" y="9907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al markets (‘cont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Making certain tt all staff work together in a manner tt is attuned to the company’s mission, strategy and goals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ll members provide the best representation of the compan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7391520" y="4965840"/>
            <a:ext cx="1676160" cy="1358280"/>
            <a:chOff x="7391520" y="4965840"/>
            <a:chExt cx="1676160" cy="1358280"/>
          </a:xfrm>
        </p:grpSpPr>
        <p:sp>
          <p:nvSpPr>
            <p:cNvPr id="851" name=""/>
            <p:cNvSpPr/>
            <p:nvPr/>
          </p:nvSpPr>
          <p:spPr>
            <a:xfrm flipH="1">
              <a:off x="7737840" y="53413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38200" y="53413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691840" y="5341320"/>
              <a:ext cx="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14040" y="6122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98120" y="496584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34240" y="52257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1520" y="525456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80240" y="58906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89880" y="5861880"/>
              <a:ext cx="433440" cy="433440"/>
            </a:xfrm>
            <a:prstGeom prst="ellipse">
              <a:avLst/>
            </a:prstGeom>
            <a:solidFill>
              <a:srgbClr val="f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027640" y="5602320"/>
              <a:ext cx="403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809880"/>
            <a:ext cx="1447920" cy="1371600"/>
          </a:xfrm>
          <a:prstGeom prst="rect">
            <a:avLst/>
          </a:prstGeom>
          <a:solidFill>
            <a:srgbClr val="e874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mid_east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3962520" y="3809880"/>
            <a:ext cx="274320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Relationship Life-Cyc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819520" y="1295280"/>
            <a:ext cx="6324480" cy="838440"/>
            <a:chOff x="2819520" y="1295280"/>
            <a:chExt cx="6324480" cy="838440"/>
          </a:xfrm>
        </p:grpSpPr>
        <p:sp>
          <p:nvSpPr>
            <p:cNvPr id="152" name=""/>
            <p:cNvSpPr/>
            <p:nvPr/>
          </p:nvSpPr>
          <p:spPr>
            <a:xfrm>
              <a:off x="2819520" y="12952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ood internal qu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676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19520" y="4724280"/>
            <a:ext cx="6324480" cy="838440"/>
            <a:chOff x="2819520" y="4724280"/>
            <a:chExt cx="6324480" cy="838440"/>
          </a:xfrm>
        </p:grpSpPr>
        <p:sp>
          <p:nvSpPr>
            <p:cNvPr id="155" name=""/>
            <p:cNvSpPr/>
            <p:nvPr/>
          </p:nvSpPr>
          <p:spPr>
            <a:xfrm>
              <a:off x="601992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19520" y="47242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ustomer retention rates in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819520" y="1981080"/>
            <a:ext cx="6324480" cy="838440"/>
            <a:chOff x="2819520" y="1981080"/>
            <a:chExt cx="6324480" cy="838440"/>
          </a:xfrm>
        </p:grpSpPr>
        <p:sp>
          <p:nvSpPr>
            <p:cNvPr id="158" name=""/>
            <p:cNvSpPr/>
            <p:nvPr/>
          </p:nvSpPr>
          <p:spPr>
            <a:xfrm>
              <a:off x="601992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19810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atisfied employ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9520" y="2666880"/>
            <a:ext cx="6324480" cy="838440"/>
            <a:chOff x="2819520" y="2666880"/>
            <a:chExt cx="6324480" cy="838440"/>
          </a:xfrm>
        </p:grpSpPr>
        <p:sp>
          <p:nvSpPr>
            <p:cNvPr id="161" name=""/>
            <p:cNvSpPr/>
            <p:nvPr/>
          </p:nvSpPr>
          <p:spPr>
            <a:xfrm>
              <a:off x="6019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9520" y="26668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taff turnover redu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19520" y="3352680"/>
            <a:ext cx="6324480" cy="838440"/>
            <a:chOff x="2819520" y="3352680"/>
            <a:chExt cx="6324480" cy="838440"/>
          </a:xfrm>
        </p:grpSpPr>
        <p:sp>
          <p:nvSpPr>
            <p:cNvPr id="164" name=""/>
            <p:cNvSpPr/>
            <p:nvPr/>
          </p:nvSpPr>
          <p:spPr>
            <a:xfrm>
              <a:off x="6019920" y="373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9520" y="33526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ncreased quality to 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19520" y="4038480"/>
            <a:ext cx="6324480" cy="838440"/>
            <a:chOff x="2819520" y="4038480"/>
            <a:chExt cx="6324480" cy="838440"/>
          </a:xfrm>
        </p:grpSpPr>
        <p:sp>
          <p:nvSpPr>
            <p:cNvPr id="167" name=""/>
            <p:cNvSpPr/>
            <p:nvPr/>
          </p:nvSpPr>
          <p:spPr>
            <a:xfrm>
              <a:off x="60199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40384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atisfied 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19520" y="5486400"/>
            <a:ext cx="632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vels of Customer Bond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791600">
            <a:off x="3708000" y="2819520"/>
            <a:ext cx="3911760" cy="1295280"/>
          </a:xfrm>
          <a:custGeom>
            <a:avLst/>
            <a:gdLst>
              <a:gd name="textAreaLeft" fmla="*/ 1017000 w 3911760"/>
              <a:gd name="textAreaRight" fmla="*/ 2894760 w 3911760"/>
              <a:gd name="textAreaTop" fmla="*/ 336600 h 1295280"/>
              <a:gd name="textAreaBottom" fmla="*/ 958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641" y="21600"/>
                </a:lnTo>
                <a:lnTo>
                  <a:pt x="6959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f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an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gr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523880"/>
            <a:ext cx="1447920" cy="9907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791600">
            <a:off x="3047400" y="4419720"/>
            <a:ext cx="5638680" cy="1295280"/>
          </a:xfrm>
          <a:custGeom>
            <a:avLst/>
            <a:gdLst>
              <a:gd name="textAreaLeft" fmla="*/ 1465920 w 5638680"/>
              <a:gd name="textAreaRight" fmla="*/ 4172760 w 5638680"/>
              <a:gd name="textAreaTop" fmla="*/ 336600 h 1295280"/>
              <a:gd name="textAreaBottom" fmla="*/ 958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641" y="21600"/>
                </a:lnTo>
                <a:lnTo>
                  <a:pt x="6959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uristic Loya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vels of Customer Bond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520" y="27428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nvolvement fast moving consumer good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in brand equit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buying toothpas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abit, little cognitive effort &amp; risk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791600">
            <a:off x="3047400" y="1219320"/>
            <a:ext cx="5638680" cy="1295280"/>
          </a:xfrm>
          <a:custGeom>
            <a:avLst/>
            <a:gdLst>
              <a:gd name="textAreaLeft" fmla="*/ 1465920 w 5638680"/>
              <a:gd name="textAreaRight" fmla="*/ 4172760 w 5638680"/>
              <a:gd name="textAreaTop" fmla="*/ 336600 h 1295280"/>
              <a:gd name="textAreaBottom" fmla="*/ 958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641" y="21600"/>
                </a:lnTo>
                <a:lnTo>
                  <a:pt x="6959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uristic Loya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vels of Customer Bond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520" y="266652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finity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kia employees buy Nokia handphone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buys Shell petrol ‘cos father works for shell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d Image/Self-Image Congruence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Mercedes to be seen as “successful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Chanel to be seen as “classy &amp; sophiscated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6400800"/>
            <a:ext cx="3886200" cy="4572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KT331 Relationship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791600">
            <a:off x="3708000" y="1219320"/>
            <a:ext cx="3911760" cy="1295280"/>
          </a:xfrm>
          <a:custGeom>
            <a:avLst/>
            <a:gdLst>
              <a:gd name="textAreaLeft" fmla="*/ 1017000 w 3911760"/>
              <a:gd name="textAreaRight" fmla="*/ 2894760 w 3911760"/>
              <a:gd name="textAreaTop" fmla="*/ 336600 h 1295280"/>
              <a:gd name="textAreaBottom" fmla="*/ 958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641" y="21600"/>
                </a:lnTo>
                <a:lnTo>
                  <a:pt x="6959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f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an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Image Congr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1020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relationship marke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5:54:16Z</dcterms:created>
  <dc:creator>radical</dc:creator>
  <dc:description/>
  <dc:language>en-US</dc:language>
  <cp:lastModifiedBy>radical</cp:lastModifiedBy>
  <dcterms:modified xsi:type="dcterms:W3CDTF">2002-10-14T16:20:31Z</dcterms:modified>
  <cp:revision>73</cp:revision>
  <dc:subject/>
  <dc:title>Supernova</dc:title>
</cp:coreProperties>
</file>