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3C9E-87F5-4E12-B3A4-D3477B87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ABF-046D-4DCA-BDC8-566A0E50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72B-CA19-4CE6-BF51-D4E4DEB7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49F-149B-4085-A8FA-190B5FDC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CEDF-343A-4DE4-8222-31B3F862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3BF9-6CE8-49FE-81F2-69013641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BBFE-2004-42E5-9F54-FEB094D7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C22F-8F9A-4AF1-AF1F-BE56E0A6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A0E8-A518-4FF1-9119-CD1C80F7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550F-B5B2-492D-848A-89C68EE6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39A4-900D-42CE-82D7-D72D73E7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5E9-DAA7-4075-A56E-451B9D71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4DD5-E8AB-4AF2-9216-3249C60C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B135-AC71-4F08-93A2-FCC8E8DB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636B-B13C-4EBE-BEC4-800E0604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2EB6-1EDA-4FF1-B8B4-171374D1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F9E9-2785-4AE3-9871-883BDAB9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6626-EB43-4EB1-BB91-074E4EE4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385-B182-4BDC-963B-2AE7D3A4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121-E874-4F71-9885-C0C23C04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AFD1-29DF-47E5-95E4-933B1FC0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BE6C-70BF-45F7-9F90-9BBB1C0B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A0F6-F9F1-4063-8D1D-6CC88BC2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C74-E628-4C67-B076-02039F11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lue_globe" descr=""/>
          <p:cNvPicPr/>
          <p:nvPr/>
        </p:nvPicPr>
        <p:blipFill>
          <a:blip r:embed="rId3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b84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b84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b84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b84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b84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9DE2-C4A0-413B-A241-E2EC521C3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C059-79CB-4276-BCF7-0E159E9A6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8495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5b849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5b8495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8495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5b8495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8495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8495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8495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blue_globe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05120" y="4800600"/>
            <a:ext cx="533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6477120"/>
            <a:ext cx="3048120" cy="380880"/>
          </a:xfrm>
          <a:prstGeom prst="rect">
            <a:avLst/>
          </a:prstGeom>
          <a:solidFill>
            <a:srgbClr val="a1e2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eek 4: 29th October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rategic growth op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1.  Mkt penetration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685800"/>
            <a:ext cx="40194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7 :: Internet in Marketing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6002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l more existing p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 when orgn wishes to minimiz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. Can purchase from physical store or onl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743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2.  Mk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into new mkt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ns current pdt m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sition pdt for new mk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rategic growth op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3.  Pdt development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685800"/>
            <a:ext cx="40194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7 :: Internet in Marketing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6002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n existing cust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new complementary pd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590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4.  Diver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31240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tally new 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dra on its existing cust. base or pdt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st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gmentation: Decisions &amp; design of mktg mix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ing decision &amp; mktg mix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685800"/>
            <a:ext cx="40194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7 :: Internet in Marketing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1337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luster users into groups &amp; tailor offe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6002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1.  Describing the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1200" y="2590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1860c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0c0"/>
                </a:solidFill>
                <a:latin typeface="Arial"/>
              </a:rPr>
              <a:t>Usage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behavior, duration, # of repeat vi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4290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0c0"/>
                </a:solidFill>
                <a:latin typeface="Arial"/>
              </a:rPr>
              <a:t>2.   Internet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 of time &amp; depth of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, web, technical such as email, I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46483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0c0"/>
                </a:solidFill>
                <a:latin typeface="Arial"/>
              </a:rPr>
              <a:t>3.   Famili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Internet, brand, pdt, web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gmentation: Decisions &amp; design of mktg mix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ing decision &amp; mktg mix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685800"/>
            <a:ext cx="40194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7 :: Internet in Marketing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1200" y="17524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0c0"/>
                </a:solidFill>
                <a:latin typeface="Arial"/>
              </a:rPr>
              <a:t>4.  Useful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site or pdt address the needs (chpt 8) of your target (chpt 10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2590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0c0"/>
                </a:solidFill>
                <a:latin typeface="Arial"/>
              </a:rPr>
              <a:t>5.  Techn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’s computer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 type &amp; version (IE, Netsca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system (Windows, Mac, Un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 speed (dialup, cable, le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&amp; software (e.g. web TV, mobile, pal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gmentation: Decisions &amp; design of mktg mix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685800"/>
            <a:ext cx="40194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7 :: Internet in Marketing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7524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n determines which needs it can address in mkt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holding to goals &amp;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se the positioning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b’cos the world audience is available doesn’t mean u address al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more profitable in a target niche mkt than a untargeted global mk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2193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2.  Comparing segment to firm’s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gmentation: Decisions &amp; design of mktg mix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5105520" y="685800"/>
            <a:ext cx="40194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7 :: Internet in Marketing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7524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seg, to addr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nflu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of web site (chpt 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ktg m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t posit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12193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3.  Select the most interesting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gmentation: Decisions &amp; design of mktg mix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685800"/>
            <a:ext cx="40194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7 :: Internet in Marketing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7524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m tail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ktg m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ite de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eet the needs of the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2193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4.  Making the mktg mix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blue_globe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05120" y="4800600"/>
            <a:ext cx="533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Internet Marketing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Readings: Site Design For Succ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yles of Web Site Structur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le 1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tate up front and in as few words as possible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or wants to know what’s in it for them!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00800" y="685800"/>
            <a:ext cx="27241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Verdana"/>
                <a:ea typeface="Times New Roman"/>
              </a:rPr>
              <a:t>Site Design For Success</a:t>
            </a: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5146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Make it interesting &amp; relev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 is king! Relevant? Interes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vy images &amp; animations releva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2670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Make it attractive &amp; easy to navi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-friendly? Will they be lo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compromise download tim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yles of Web Site Structur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le 4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ptimize file size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have patience?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685800"/>
            <a:ext cx="27241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Verdana"/>
                <a:ea typeface="Times New Roman"/>
              </a:rPr>
              <a:t>Site Design For Success</a:t>
            </a: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5146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ost on quality 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your site is always up and runni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8862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l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xchange &amp; recipro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to relevant sit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on’t loose the visitor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blue_globe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05120" y="4800600"/>
            <a:ext cx="533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4800600"/>
            <a:ext cx="533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114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7 :: Internet in Marketing Strateg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yles of Web Site Structur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le 7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Give something away for free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don’t buy immediately! Keep ‘em coming!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685800"/>
            <a:ext cx="27241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Verdana"/>
                <a:ea typeface="Times New Roman"/>
              </a:rPr>
              <a:t>Site Design For Success</a:t>
            </a: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5146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l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reate opt-in news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loyalty, trust &amp; expert opi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for permission, don’t spam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nt news &amp; inf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opt-ou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yles of Web Site Structur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le 9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romote! Promote! Promote!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or offline, posters, name cards, conversation &amp; many more!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00800" y="685800"/>
            <a:ext cx="27241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Verdana"/>
                <a:ea typeface="Times New Roman"/>
              </a:rPr>
              <a:t>Site Design For Success</a:t>
            </a: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5146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l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heck! Check! Che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tibility? Broken links? Loading time? Search engine readines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are you trying to achieve by going online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1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pecific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of web site? How does it integrate into the company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685800"/>
            <a:ext cx="40194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7 :: Internet in Marketing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2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Meas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be quantified. Got to track success or fail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3.  Actio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able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1911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4.  Real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s must be achievab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5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Timet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ong?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are you trying to achieve by going online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Internet objectives (though not limited to)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685800"/>
            <a:ext cx="40194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7 :: Internet in Marketing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7524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Enhance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Increase online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Improve cust. S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Increase mkt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are you trying to achieve by going online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anageri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erce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online 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685800"/>
            <a:ext cx="40194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7 :: Internet in Marketing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3623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Valuable for conveying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More cost 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Effective in causing an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Effective for both long &amp; short-term pr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Not effective in grabbing at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Less effective in changing or maintaining at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tting specific online mktg objectiv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1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ost-oriented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cost &amp; increase saving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admin, ordering, reduce printing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685800"/>
            <a:ext cx="40194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7 :: Internet in Marketing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2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Sales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cust. transaction o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dts r more sui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&amp; retail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9625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3.  Behavior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key activities online to achieve effectiveness &amp;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4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Informational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ogue-styl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tting specific online mktg objectiv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5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Promotiona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ersuade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by recognition, recall, sales enquire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685800"/>
            <a:ext cx="40194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7 :: Internet in Marketing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6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Entertainment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by repeat visit, unsolicited publicity, reviews,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etitive strateg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1.  Product differentiation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685800"/>
            <a:ext cx="40194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7 :: Internet in Marketing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7432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2.  Cost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6002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value to existing pdt thru Intern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oftware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intain, it must not be easily replicated by compe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2004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online can result in cost-cu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ty for price re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as low-cost, value-for-money 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trategy may not alway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logical barriers to adopt low cost g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an result in cost reduction, the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take profits   (2) pass savings to cust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 Use the $ for investm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etitive strateg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3.  Niche market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685800"/>
            <a:ext cx="40194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7 :: Internet in Marketing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60020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ty mkt &gt;&gt; narrow target m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is interest dr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develop mkt of common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geographic r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e se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lso use secondary mk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auction sites – e-bay.c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specialist interest communities or newsg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10:50:20Z</dcterms:created>
  <dc:creator>radical</dc:creator>
  <dc:description/>
  <dc:language>en-US</dc:language>
  <cp:lastModifiedBy>radical</cp:lastModifiedBy>
  <dcterms:modified xsi:type="dcterms:W3CDTF">2002-11-03T17:12:58Z</dcterms:modified>
  <cp:revision>212</cp:revision>
  <dc:subject/>
  <dc:title>Static Liquid</dc:title>
</cp:coreProperties>
</file>