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19C-986B-4ECA-AE8B-5FFE26E4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E15-0CEB-46B8-9AD4-B6BF88C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F53-41F2-48AD-AAEB-3695CD6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3BF-F5CE-4F1B-88BD-CA953B35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968-3952-4996-B6CF-22D19DFC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A30A-84C0-4DA3-836C-785ABE2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58F-394E-4F7B-B5D1-F185CBFF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8401-B940-4274-9900-6362891F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25BE-504D-4F4F-A423-6302E015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083A-F7E3-4CDB-B2F0-33DC31CC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961B-B322-442B-8906-A2AEE08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42D-2D9A-4760-A8B4-3F1ED9EB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A6C0-350D-4533-9553-6FF4118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7EB-6F52-432A-8232-B461761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D89-5B87-4F76-A7FB-4DA9536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73EE-77C2-43D4-B240-6201C302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221-CF10-4730-B35E-455E9701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170-8470-4435-ABB9-BEDA92F1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644-C5D6-4A7A-A5E6-36A80D1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0E6-6F8A-4188-AB53-BA33A8D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1F7-FD04-4ABE-8479-DB97CDD1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8D7-A19E-40B0-8B23-31AA263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141-6DAF-406B-BE85-C82D724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48D-9320-4CC7-A802-23D27EE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_globe" descr="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55A-B8CB-4DD3-81FB-9E0EFD11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4B4-0C40-4598-9959-42CA7FE7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5b849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5b849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b849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6477120"/>
            <a:ext cx="3048120" cy="380880"/>
          </a:xfrm>
          <a:prstGeom prst="rect">
            <a:avLst/>
          </a:prstGeom>
          <a:solidFill>
            <a:srgbClr val="a1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ek 4: 21st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Wholesale/retai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5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irect communications, mkt segmentation, target mk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13148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data on mkt segmen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3148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messagin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3148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k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75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ost saving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13148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ransaction cost (may not be always!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Wholesale/retai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mitation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gistics &amp; supply chain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ship to all countrie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r cust. orders today, will the pdt be delivered 2 mths later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the stocks? 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intermediat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manufacturer also selling online directly to the same cust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hat’s the profit margin now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mpetit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69080" indent="-213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any online retailers, so much competition!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Wholesale/retai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5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motivation?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5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’l reach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653400" indent="-297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global mkt plac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35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dt/Internet fi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653400" indent="-297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s suitable for distribution over Interne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35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wer cos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653400" indent="-297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ccess for less cost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2. Expor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&amp; understanding export on Interne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ustain competitive advantag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offline activities with online dealing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Understand issues &amp; realities of export industr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on intl shipping, taxation, exchange rat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a long-term investmen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ikely to generate revenue in the short term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investment, not cos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a sales, promotional, communication channe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2. Expor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urity, Confidentiality, Privac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major determinant in the use of the interne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on confidentiality, order security, credit securit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40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rnet is not the universal medium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ly solely on online trad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romotional mix &amp; competitive advantage in offline is crucia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2. Expor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export transaction typ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.  Intrafirm exports or import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complex pd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mponents required around the wor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&amp; shipped to an assembly pd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  Long-term exporting agreement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fixed output over a period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.  Interfirm export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currin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a sales medium or catalo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. Discrete exchang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1904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ales to end-users w/o intermediari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. Recreational Svc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7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.  Entertainmen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, movie preview, trailer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s, gossips, news 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technical limitations...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7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  Gambling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literac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ing regulation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&amp; cultur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511200" indent="-232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requiremen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7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. Recreational Svc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.  Online tourism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bertouris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mkt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virtual tou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ist webcam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 :: Creating Cybercommun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ybercommu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Virtual Communiti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common bond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hysical interac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eography limit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2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ided &amp; encouraged by physical converg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soccer match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 :: Application for Business &amp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ybercommunities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nteres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experienc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tes, Instigators, Leader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 capita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knowledge bas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digital world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upport network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hysical identit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s &amp; written express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5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lue to business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   Support network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   Customer-to-customer 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.   Customer to company 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4.   Company to employee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.   Loyalty-building 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6.   Value-added pre-and post sale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tting up a community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   Location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IRC, virtual room, newsgroup, forum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   Community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helps a community to succeed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   No short-term profits, careful pric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 Exits for the benefits of members, give freedom &amp; creativit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   Provide for their need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   Support the leaders &amp; members who value add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   Support their support for you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yberdestination marketing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   Attrac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son for going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40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 Accessibility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y need spec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40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   Ameniti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40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b8495"/>
              </a:solidFill>
              <a:latin typeface="Arial"/>
            </a:endParaRPr>
          </a:p>
          <a:p>
            <a:pPr marL="40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685800"/>
            <a:ext cx="40194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5 :: Creating Cyber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ing an integrated experience to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ber environment, svcs, community, community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under the banner cybercommunit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6668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   Available packag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, access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   Activiti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ompetition, spec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.   Ancillary svc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do you want to achieve by going onlin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lationship build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ster closer ties w cooperative org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Int’l exposur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pdts available in other mkt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itional svc provis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pdts, svc, update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ng-term cost reduction in communication activitie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ommunications w cust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PR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advertg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to support main A&amp;P campaig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do you want to achieve by going online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vcing a community or specialist needs grp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grp for cancer victim &amp; familie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ccess to new mkt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order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the main focus of online activity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kt Research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surve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ust. svc &amp; cust. Suppor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upplementar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c to existg cust? 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retailing svc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M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-add to existg cust.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online order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upport svc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4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. Intranets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the main focus of online activity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dt distribution svc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rder tracking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2B communication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mechanism to expedite order proces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lligence gather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pdt, cust &amp; mkt trend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competitors’ info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283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mmunications &amp; promotion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ing?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Business Applic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ypes of biz application on interne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holesale/retail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ort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creational svc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omotions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in Chpt 10, covered in IM Lecture 2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23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.  Internet-dependent applications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Chpt 5, to be covered later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Wholesale/retai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asons for going online: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ales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, A &amp; P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lvl="1" marL="73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Cust. Svc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Wholesale/retai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5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advantages: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6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ccessibilit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7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&amp; global acces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ing for emerging mk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sell niche pd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46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ew mkt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set up physical offic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llective selling grp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ww.weeklyspecials.com.au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691560" indent="-188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op-based web pres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ww.bartercard.com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685800"/>
            <a:ext cx="49338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6 :: Application for Business &amp; Non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0:50:20Z</dcterms:created>
  <dc:creator>radical</dc:creator>
  <dc:description/>
  <dc:language>en-US</dc:language>
  <cp:lastModifiedBy>PBS</cp:lastModifiedBy>
  <dcterms:modified xsi:type="dcterms:W3CDTF">2002-10-22T10:07:43Z</dcterms:modified>
  <cp:revision>153</cp:revision>
  <dc:subject/>
  <dc:title>Static Liquid</dc:title>
</cp:coreProperties>
</file>