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C6D-7B1B-4287-8542-170D4016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916-7B58-4DAF-AFCA-BB85723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264-1468-4D7E-A5A4-07A8EE89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925-955F-4804-98AD-327D0346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AE04-8667-4C32-B082-320344D9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E2E0-E5D7-4584-A640-330561CF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B3AF-AFD3-4701-85DB-5ABC6F1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5DBF-D42B-4854-8406-9D525342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C8D2-C6A9-45EB-A99F-B4A82A2F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91E5-CAD2-420A-B6DC-7F1A2CC5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106B-5FA6-430F-813D-4688099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D5D-00BA-4420-91F3-CC7B75A5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D363-5E77-4E1E-A88D-B5EE556F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2DEB-D261-45A7-927E-B36932EB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DAF1-123D-4A6E-BDF9-6A224717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040D-6D03-4087-9722-9B743419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B151-BF1C-475B-A1CC-98196893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C58-6B7E-4128-8A94-1B7EAA66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2F5-D62E-4F15-B373-907D821A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08F-6239-4E10-94CC-1A4E7E47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F58-D084-48CC-B24E-8468A4F1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1AB-4BAE-4A0C-9E06-494370C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3E9-FB7A-45B8-9FA3-02C0C0E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E81-749C-44CE-91BF-57B9EBE1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_globe" descr=""/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b84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94B1-1BB7-4D03-BDD7-92678C48F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8C99-5503-499F-9AF7-16BF59424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5b849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5b849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5b8495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../../../../xp/Desktop/Lecture%202%20Examples/Stratagram%20Website/index.html" TargetMode="External"/><Relationship Id="rId3" Type="http://schemas.openxmlformats.org/officeDocument/2006/relationships/hyperlink" Target="file:///../../../../xp/Desktop/Lecture%202%20Examples/Stratagram%20Website/index.html" TargetMode="External"/><Relationship Id="rId4" Type="http://schemas.openxmlformats.org/officeDocument/2006/relationships/hyperlink" Target="file:///../../../../xp/Desktop/Lecture%202%20Examples/Stratagram%20Website/index.html" TargetMode="External"/><Relationship Id="rId5" Type="http://schemas.openxmlformats.org/officeDocument/2006/relationships/hyperlink" Target="file:///../../../../xp/Desktop/Lecture%202%20Examples/Stratagram%20Website/index.html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6477120"/>
            <a:ext cx="3048120" cy="380880"/>
          </a:xfrm>
          <a:prstGeom prst="rect">
            <a:avLst/>
          </a:prstGeom>
          <a:solidFill>
            <a:srgbClr val="a1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ek 2: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Octo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tractors on the Web: Types of web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e styles of Web Sites: (‘cont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Archive sites: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historical info of compan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equivalent of museum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tructur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ierarch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interlinking related topics &amp; info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 large info DB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6019920"/>
            <a:ext cx="5257800" cy="1139760"/>
            <a:chOff x="0" y="6019920"/>
            <a:chExt cx="5257800" cy="1139760"/>
          </a:xfrm>
        </p:grpSpPr>
        <p:sp>
          <p:nvSpPr>
            <p:cNvPr id="143" name=""/>
            <p:cNvSpPr/>
            <p:nvPr/>
          </p:nvSpPr>
          <p:spPr>
            <a:xfrm>
              <a:off x="0" y="6019920"/>
              <a:ext cx="5257800" cy="83808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6019920"/>
              <a:ext cx="52578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://microsoft.com/mscorp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tractors on the Web: Types of web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e styles of Web Sites: (‘cont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ve sponsorship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dedicated to promotion of an exclusive sponsorship even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as charity events, concert series or movi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: showcase corporate involvement of in even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e to direct traffic from site to sponsor’s sit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&amp; Site Leve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ze the strength &amp; abilities of orgn sponsoring even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019920"/>
            <a:ext cx="5257800" cy="1139760"/>
            <a:chOff x="0" y="6019920"/>
            <a:chExt cx="5257800" cy="1139760"/>
          </a:xfrm>
        </p:grpSpPr>
        <p:sp>
          <p:nvSpPr>
            <p:cNvPr id="152" name=""/>
            <p:cNvSpPr/>
            <p:nvPr/>
          </p:nvSpPr>
          <p:spPr>
            <a:xfrm>
              <a:off x="0" y="6019920"/>
              <a:ext cx="5257800" cy="83808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6019920"/>
              <a:ext cx="52578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://www.mp3.com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tractors on the Web: Types of web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e styles of Web Sites: (‘cont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 Town hall sit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forum for debate, discussion &amp; public speaking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ed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de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um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live action area &amp; archive of previous event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 of easy-to-follow path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determined events such as video, forum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interlinking related topics &amp; info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 large info DB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019920"/>
            <a:ext cx="5257800" cy="1139760"/>
            <a:chOff x="0" y="6019920"/>
            <a:chExt cx="5257800" cy="1139760"/>
          </a:xfrm>
        </p:grpSpPr>
        <p:sp>
          <p:nvSpPr>
            <p:cNvPr id="161" name=""/>
            <p:cNvSpPr/>
            <p:nvPr/>
          </p:nvSpPr>
          <p:spPr>
            <a:xfrm>
              <a:off x="0" y="6019920"/>
              <a:ext cx="5257800" cy="83808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6019920"/>
              <a:ext cx="52578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://macshowlive.com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tractors on the Web: Types of web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e styles of Web Sites: (‘cont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 Club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&amp; host cyber communiti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-based environmen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to allow passage between room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chat &amp; communica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6019920"/>
            <a:ext cx="5257800" cy="1139760"/>
            <a:chOff x="0" y="6019920"/>
            <a:chExt cx="5257800" cy="1139760"/>
          </a:xfrm>
        </p:grpSpPr>
        <p:sp>
          <p:nvSpPr>
            <p:cNvPr id="170" name=""/>
            <p:cNvSpPr/>
            <p:nvPr/>
          </p:nvSpPr>
          <p:spPr>
            <a:xfrm>
              <a:off x="0" y="6019920"/>
              <a:ext cx="5257800" cy="83808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019920"/>
              <a:ext cx="52578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://www.slashdot.o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tractors on the Web: Types of web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e styles of Web Sites: (‘cont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 Gift shop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taways, free offers, downloadable softwar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of server to support download traffic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or sites for peak hr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019920"/>
            <a:ext cx="5257800" cy="1880640"/>
            <a:chOff x="0" y="6019920"/>
            <a:chExt cx="5257800" cy="1880640"/>
          </a:xfrm>
        </p:grpSpPr>
        <p:sp>
          <p:nvSpPr>
            <p:cNvPr id="179" name=""/>
            <p:cNvSpPr/>
            <p:nvPr/>
          </p:nvSpPr>
          <p:spPr>
            <a:xfrm>
              <a:off x="0" y="6019920"/>
              <a:ext cx="5257800" cy="83808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6019920"/>
              <a:ext cx="5257800" cy="18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://www.palmgear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tractors on the Web: Types of web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e styles of Web Sites: (‘cont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 Freeway intersection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 sites, search engines, content index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s include customisable info such as new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&amp; feel of newspaper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structure w multiple layers of directories &amp; sub-directories grouped by conten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19920"/>
            <a:ext cx="5257800" cy="1139760"/>
            <a:chOff x="0" y="6019920"/>
            <a:chExt cx="5257800" cy="1139760"/>
          </a:xfrm>
        </p:grpSpPr>
        <p:sp>
          <p:nvSpPr>
            <p:cNvPr id="188" name=""/>
            <p:cNvSpPr/>
            <p:nvPr/>
          </p:nvSpPr>
          <p:spPr>
            <a:xfrm>
              <a:off x="0" y="6019920"/>
              <a:ext cx="5257800" cy="83808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019920"/>
              <a:ext cx="52578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://yahoo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tractors on the Web: Types of web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e styles of Web Sites: (‘cont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 Customer svc ctr sit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fter-sales suppor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 or pdt use info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catalogue desig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able conten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updat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019920"/>
            <a:ext cx="5257800" cy="1510200"/>
            <a:chOff x="0" y="6019920"/>
            <a:chExt cx="5257800" cy="1510200"/>
          </a:xfrm>
        </p:grpSpPr>
        <p:sp>
          <p:nvSpPr>
            <p:cNvPr id="197" name=""/>
            <p:cNvSpPr/>
            <p:nvPr/>
          </p:nvSpPr>
          <p:spPr>
            <a:xfrm>
              <a:off x="0" y="6019920"/>
              <a:ext cx="5257800" cy="83808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019920"/>
              <a:ext cx="5257800" cy="15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://microsoft.com/upd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tegories of design: Types of home pa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Advocacy pag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corporation’s position on an issu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eebok.com/humanrights/home.htm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2860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Brand image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rsement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win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3505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Comparative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 to head pdt 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zdnet.com/tech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4648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 Corporate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 goals or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oyal-doulton.com/company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tegories of design: Types of home pa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 DR pag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user feedback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peoplesound.com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 Index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 of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win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3505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 Political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sue support for votes, candidates &amp; campa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4197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 Public svc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worthy c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mh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tegories of design: Types of home pa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Retail sales pag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ing pdts/svc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mazon.com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0 :: The Internet as a promotional mediu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6477120"/>
            <a:ext cx="3048120" cy="380880"/>
          </a:xfrm>
          <a:prstGeom prst="rect">
            <a:avLst/>
          </a:prstGeom>
          <a:solidFill>
            <a:srgbClr val="a1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ek 2: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Octo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lanning a Web Si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&amp; purpose of the sit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Mar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budget &amp;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Mecha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aspect &amp; pdtn of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32004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 Mktg 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ng the web site into the company’s mkt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886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of 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4 :: Consumer Behavio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6477120"/>
            <a:ext cx="3048120" cy="380880"/>
          </a:xfrm>
          <a:prstGeom prst="rect">
            <a:avLst/>
          </a:prstGeom>
          <a:solidFill>
            <a:srgbClr val="a1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ek 2: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Octo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 User Categor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ed Information Seeker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timely, relevant &amp; accurate informa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685800"/>
            <a:ext cx="302904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4 :: Consumer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Undirected Information Se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interest-dr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new or interesting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895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Bargain Hu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free trails, samples, givea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3581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 Entertainment Se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online enter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267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 Directed 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hop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y people use the Intern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ity &amp; non-corporeal body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 and lack of physical presence gives consumer greater freedom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5880" y="685800"/>
            <a:ext cx="302904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4 :: Consumer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209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Communications: Reach out &amp; chat with some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s, video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0481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Conven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access to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s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banking, online sho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  Information See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 information available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y people use the Intern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 Global Acces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h is unlimited!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685800"/>
            <a:ext cx="302904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4 :: Consumer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 Community/ sense of belonging/ pursuit of common interests &amp;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terest-dr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ontact ppl with similar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3276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 Utilities/ necessity/ fear of being left beh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: to meet a need or w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y don’t adopt Internet, they may lose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education,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y people use the Intern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 Recreation, leisure &amp; pleasur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offers a wide range of entertainment!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685800"/>
            <a:ext cx="302904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4 :: Consumer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Inherent M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is there, so use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pleasure from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trictions: Factors preventing use of Intern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.   Cost: Time &amp; Money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to use Interne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to use computer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cos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computer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685800"/>
            <a:ext cx="302904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4 :: Consumer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   Internet 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amiliar with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   F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wanted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trictions: Factors preventing use of Intern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.   Lack of desire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enefit to use i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s no need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slow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complex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dul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5880" y="685800"/>
            <a:ext cx="302904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4 :: Consumer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.   Expectation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tched of expectation &amp; re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ications for Mkt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.   Lower the barrier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entry cost (price)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points of access &amp; info (place)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visible instruction &amp; encouragement (promotion)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multi-layered Internet access based on skill (pdt)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value to user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5880" y="685800"/>
            <a:ext cx="302904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4 :: Consumer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   Lower expectations: deliver more than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ise something that can be achie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more than pro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ications for Mkt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   Securing the Interne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ble mktg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customer privac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secure sites 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685800"/>
            <a:ext cx="302904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4 :: Consumer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.   Accept 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will just not adopt your pd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yles of Web Site Structur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ode Level</a:t>
            </a:r>
            <a:endParaRPr b="1" lang="en-US" sz="2800" spc="-1" strike="noStrike">
              <a:solidFill>
                <a:srgbClr val="5b8495"/>
              </a:solidFill>
              <a:latin typeface="Arial"/>
            </a:endParaRPr>
          </a:p>
          <a:p>
            <a:pPr lvl="1" marL="829440" indent="-37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of elements w/i a pag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448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mponent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448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of colour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448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images &amp; tex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44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9933"/>
                </a:solidFill>
                <a:uFillTx/>
                <a:latin typeface="Arial"/>
                <a:hlinkClick r:id="rId2"/>
              </a:rPr>
              <a:t>Click to</a:t>
            </a:r>
            <a:r>
              <a:rPr b="0" lang="en-US" sz="2400" spc="-1" strike="noStrike" u="sng">
                <a:solidFill>
                  <a:srgbClr val="339933"/>
                </a:solidFill>
                <a:uFillTx/>
                <a:latin typeface="Arial"/>
                <a:hlinkClick r:id="rId3"/>
              </a:rPr>
              <a:t> Stratagram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5053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t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&amp; feel &amp; navi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verall direction of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of non-linear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33"/>
                </a:solidFill>
                <a:uFillTx/>
                <a:latin typeface="Arial"/>
                <a:hlinkClick r:id="rId4"/>
              </a:rPr>
              <a:t>Click to</a:t>
            </a:r>
            <a:r>
              <a:rPr b="0" lang="en-US" sz="2000" spc="-1" strike="noStrike" u="sng">
                <a:solidFill>
                  <a:srgbClr val="339933"/>
                </a:solidFill>
                <a:uFillTx/>
                <a:latin typeface="Arial"/>
                <a:hlinkClick r:id="rId5"/>
              </a:rPr>
              <a:t> Str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rategic Framework for Web Site Desig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ystem Feasibility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Fea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b/w benefits &amp; cost of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Technical Fea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of technology available to the or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124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Operational Fea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the cust., supplier, staff, mgmt use the si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886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 Organisational Fea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the web site into the company’s existing oper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rategic Framework for Web Site Desig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Usefulnes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ent a site has info, systems &amp; functions to do what it promises t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How to use the site? What each button do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954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Use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ent a site can be easily operated by target 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Good layout, design, colour choi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jectively Pl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sthetic value of the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Does the site look good &amp; is it easy on the svc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952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 Ease of brow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sign consid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Consistent navigation or de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rategic Framework for Web Site Desig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Usefulnes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23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Useability (‘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   Ease of 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readab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Readability should target at the largest mass 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954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   Ease of brow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sign consid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Consistent navigation or de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rategic Framework for Web Site Desig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ocial Acceptability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ity of pdt, svc or idea being 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Software license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666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Politic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ts, svc or idea acceptable to the gv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Political discussion in Singapore, vs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Abortion discussion in Iraq vs Engl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Economic Fea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Do cust. Have the (disposable) income to buy the pd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rategic Framework for Web Site Desig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ocial Acceptability (‘cont)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to every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ntent, pdt, svc controversial? Acceptable? Any conflic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Sexy clothing acceptable to Muslim community (middle east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tractors on the Web: Types of web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e styles of Web Sites: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tainment parks: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tain cust.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s of interactivity, contests &amp; priz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is to encourage repeat visi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try to sell a pdt or capture user info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 of easy-to-follow path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determined events such as games &amp; puzzl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Level: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element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time to download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s Java or Shockwave 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85800"/>
            <a:ext cx="470520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10 :: The Internet as a promotional 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67652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6019920"/>
            <a:ext cx="5257800" cy="837720"/>
            <a:chOff x="0" y="6019920"/>
            <a:chExt cx="5257800" cy="837720"/>
          </a:xfrm>
        </p:grpSpPr>
        <p:sp>
          <p:nvSpPr>
            <p:cNvPr id="134" name=""/>
            <p:cNvSpPr/>
            <p:nvPr/>
          </p:nvSpPr>
          <p:spPr>
            <a:xfrm>
              <a:off x="0" y="6019920"/>
              <a:ext cx="5257800" cy="83772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01992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://www.freefungames.com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10:50:20Z</dcterms:created>
  <dc:creator>radical</dc:creator>
  <dc:description/>
  <dc:language>en-US</dc:language>
  <cp:lastModifiedBy>radical</cp:lastModifiedBy>
  <dcterms:modified xsi:type="dcterms:W3CDTF">2002-10-09T14:37:06Z</dcterms:modified>
  <cp:revision>99</cp:revision>
  <dc:subject/>
  <dc:title>Static Liquid</dc:title>
</cp:coreProperties>
</file>