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D4C-798E-4E83-BBE9-4F43B55C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9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CB9-7364-4955-A52C-CF0AEB62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9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9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0F6-804E-4AFA-8260-45134142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800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800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9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9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9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2A5-2D5C-4068-AC94-E82AD78C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C0C3-9244-4394-90C2-24B906A2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173D-09BE-4D67-941B-4440B56C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5251-F502-44FF-99A0-DB2D2939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4800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FCFD-B58A-4D4A-99D1-0250EBDE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FC65-2009-4840-B3A3-71FB43C7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1907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290B-92A4-457F-A6C4-BCCAC77D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4800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5039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285B-3915-45E6-91AD-AAE1BD0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3A1-306F-4B21-B90B-7E8E1D07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5039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BFBA-45BC-469E-AB57-1C7B895A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5039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5867-0522-43F2-B1E1-D1CC4521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5039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9244-C156-4DBB-B22E-2C8E1E85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039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5039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81E4-2FBF-4800-B0E1-E6DFE76A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4800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4800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5039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5039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5039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ADD3-9081-42DD-9F72-03A99507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242-0F47-4A0A-9E7F-10F61BC2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800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641-5E7B-4AE0-97F9-819CCCF9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096-571B-4A6F-A298-5D024905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1907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894-25C3-487F-BA69-2F22F098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800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9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D3D-EE14-410E-8274-32B607B4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9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ED3-2F8A-462C-BD0F-E5082401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800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9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7C9-C5DE-42B2-A889-23FAB0CC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ue_globe" descr=""/>
          <p:cNvPicPr/>
          <p:nvPr/>
        </p:nvPicPr>
        <p:blipFill>
          <a:blip r:embed="rId3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b84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3F1E-7120-44F7-8E10-8D5B846DC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A75E-6CDB-45FA-9BBB-E1DCD8A51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5b849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5b849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5b8495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lue_globe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volution of online mkt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9907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ransactional sites (‘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5562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26040" y="577692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ntent pro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3440" y="324468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o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72840" y="551016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60160" y="18288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456040" y="55389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0360" y="46483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t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6480" y="495288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nve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t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07320" y="3549600"/>
            <a:ext cx="86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ir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2438280"/>
            <a:ext cx="86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ir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az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02520" y="200988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ectr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80520" y="4981680"/>
            <a:ext cx="112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ectron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ill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3733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tual bazaar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z gather to exchange information, svcs &amp; buy &amp; sell goods…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u cash, barter or trade arrangement (b2b.com)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3429000"/>
            <a:ext cx="3429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ectronic markets/a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is generated by users interacting w each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 insidetheweb.com (cybercommunities &amp; information exchanges), ebay.com (virtaual au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volution of online mkt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ass customisation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personalise messages &amp; svcs for individual customer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al customis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s specify in advance what content they wish to view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customis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more convenient but may be intrusive to privacy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nique features of the Internet compared to other Medi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nteractivity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address an individual, gather`&amp; receive response, remember tt response &amp; tailor the next`response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interaction, the higher the level of involvement, leads to increase in brand loyalty…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likelihood of purchase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s basic as recognising customer’s address thru to complexity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laborative filtering system (CFS)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ity from customer completing DB 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nique features of the Internet compared to other Medi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nteractivity (‘cont)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 phases of interactivity in the mktg proces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1: 1-way communication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is static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way w single msg to all consumer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: Partial interactivity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u the use  of email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equivalent of making phone query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is strong tie into word of mouth…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prepurchase perception of risk &amp; complexity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interaction brings about a human element into an otherwise impersonal sales even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nique features of the Internet compared to other Medi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nteractivity (‘cont)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 phases of interactivity in the mktg process 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: Full interactivity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-to-many-to-one communication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kter &amp; users (discussion grps) are responsible for the sit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categories of full interactivity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3" marL="16765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ine feedback system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3" marL="16765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service functions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3" marL="16765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ye candy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3" marL="16765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ounts, prizes &amp; coupsons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3" marL="16765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gr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nique features of the Internet compared to other Medi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Variety &amp; customisation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 updates &amp; changing elements maintains interest of regular visitors…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ever site structures shld be minimised or for major events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isation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fow of information &amp; receive onlye value content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ower users of what info is required and how it will be accessed…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dom to choose when to view/use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rrowcasting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ility to stream specialised/custom content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r cost/user than revenue/new user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sports channel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nique features of the Internet compared to other Medi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Global acces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 potential customers worldwide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barriers of global busines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2666880"/>
            <a:ext cx="7772400" cy="335304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about some consider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nique features of the Internet compared to other Medi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ime Independence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/7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ordering proces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666880"/>
            <a:ext cx="7772400" cy="335304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about some consider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nique features of the Internet compared to other Medi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nterest driven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behavior is interest driven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we have communities of interest (cyber communities)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971800"/>
            <a:ext cx="7772400" cy="30481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about some consider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ing Online: Factors to Consid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your pdt Web ready?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your customers, current and potential, online or moving online?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world simply a website and international mail stamp away?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7 Is: The Transition from Offline to Online Delive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terconnection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of new distribution channel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for numerous, sptially dispersed individuals to interconnect in real tim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is no longer bound to obey trading hrs and location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is 24/7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way of strategic thinking is needed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352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-friendly, intuitive interface b/w the mktg orgn &amp;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face is the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t of contact b/w the mkter &amp; c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ld be functional &amp; inviting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cultural &amp; no linguistic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rivers &amp; Attractors: Get me to the Web on ti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he financial justification: Cost cutting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reduction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election powered by automated DB system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2438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.   The efficiency argument: Getting better at doing it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access to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e of searching for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36576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.   The open access argument: This little piggy goes to the world wide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eed to rely on complex distribution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&amp; medium biz can order specialist goods online to resell into conventional local region distribution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also can order direct from wholesa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true for all companies e.g. Co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rivers &amp; Attractors: Get me to the Web on ti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66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he promotional argument: The global digital showc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to showcase promotions, histories, pdt details &amp; information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of web to off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multimedia) conten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upport medium In mixed media promotion; interest is generated in offline promotion and details are provided onlin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3657600"/>
            <a:ext cx="7772400" cy="181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hibitors: Reasons not to be dig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aptation of the offline to the onlin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etailing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bermall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pping portal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ine dept store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ction house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catalogue site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corner stores: Niche mktg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ine factory direct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267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   Information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952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.   Entertainment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aptation of the offline to the onlin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.   Utility Functions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access (mediated svcs)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al mgmt sv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vantages of Internet-based mktg for consum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ibility to wide-range od pre-purchase pdt info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t discussion w/i potential/existing customer community other than sales person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to pdt information from variety of sources…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quick, easy &amp; cheap pdt comparison frm multiple manufacturers &amp; provider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s customer from being pressurized by sales person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for 2-way communication thru help sites, email notification of new pdts &amp; svc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nging Customer Expectat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creasing time pressures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-day turnaround from order to delivery is no longer a standard…48 hrs processing time at most!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ss customisation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ining target segments &amp; mkt to each customer based on individuals preference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nsumer demand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s are more demanding than in the pas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wants empowermen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7 Is: The Transition from Offline to Online Delive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terconnection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of new distribution channel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for numerous, sptially dispersed individuals to interconnect in real tim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is no longer bound to obey trading hrs and location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is 24/7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way of strategic thinking is needed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352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-friendly, intuitive interface b/w the mktg orgn &amp;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face is the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t of contact b/w the mkter &amp; c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ld be functional &amp; inviting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cultural &amp; no linguistic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5 Elements of Online Mkt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Promotion</a:t>
            </a:r>
            <a:endParaRPr b="1" lang="en-US" sz="36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One-to-one contact</a:t>
            </a:r>
            <a:endParaRPr b="1" lang="en-US" sz="36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losing</a:t>
            </a:r>
            <a:endParaRPr b="1" lang="en-US" sz="36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Transaction</a:t>
            </a:r>
            <a:endParaRPr b="1" lang="en-US" sz="36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Fulfilment</a:t>
            </a:r>
            <a:endParaRPr b="1" lang="en-US" sz="36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7 Is: The Transition from Offline to Online Delive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dividualism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&amp; willingness of mkters to provide customised pdts / experienc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a combination of technology, effective MR &amp; characteristic of pdt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8195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cy, security &amp; confidenti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t &amp; will impact orgn’s success &amp; reputation online &amp; off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to developing consumers’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action b/w the 7 Is and the 4 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397160"/>
          <a:ext cx="8001000" cy="40636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  <a:gridCol w="16002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n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5" name="bd14582_" descr=""/>
          <p:cNvPicPr/>
          <p:nvPr/>
        </p:nvPicPr>
        <p:blipFill>
          <a:blip r:embed="rId2"/>
          <a:stretch/>
        </p:blipFill>
        <p:spPr>
          <a:xfrm>
            <a:off x="2457360" y="2019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bd14582_" descr=""/>
          <p:cNvPicPr/>
          <p:nvPr/>
        </p:nvPicPr>
        <p:blipFill>
          <a:blip r:embed="rId3"/>
          <a:stretch/>
        </p:blipFill>
        <p:spPr>
          <a:xfrm>
            <a:off x="2719440" y="2019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bd14582_" descr=""/>
          <p:cNvPicPr/>
          <p:nvPr/>
        </p:nvPicPr>
        <p:blipFill>
          <a:blip r:embed="rId4"/>
          <a:stretch/>
        </p:blipFill>
        <p:spPr>
          <a:xfrm>
            <a:off x="4057560" y="2009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bd14582_" descr=""/>
          <p:cNvPicPr/>
          <p:nvPr/>
        </p:nvPicPr>
        <p:blipFill>
          <a:blip r:embed="rId5"/>
          <a:stretch/>
        </p:blipFill>
        <p:spPr>
          <a:xfrm>
            <a:off x="5667480" y="20192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bd14582_" descr=""/>
          <p:cNvPicPr/>
          <p:nvPr/>
        </p:nvPicPr>
        <p:blipFill>
          <a:blip r:embed="rId6"/>
          <a:stretch/>
        </p:blipFill>
        <p:spPr>
          <a:xfrm>
            <a:off x="7248600" y="20192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bd14582_" descr=""/>
          <p:cNvPicPr/>
          <p:nvPr/>
        </p:nvPicPr>
        <p:blipFill>
          <a:blip r:embed="rId7"/>
          <a:stretch/>
        </p:blipFill>
        <p:spPr>
          <a:xfrm>
            <a:off x="7510320" y="2019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bd14582_" descr=""/>
          <p:cNvPicPr/>
          <p:nvPr/>
        </p:nvPicPr>
        <p:blipFill>
          <a:blip r:embed="rId8"/>
          <a:stretch/>
        </p:blipFill>
        <p:spPr>
          <a:xfrm>
            <a:off x="7767720" y="20192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bd14582_" descr=""/>
          <p:cNvPicPr/>
          <p:nvPr/>
        </p:nvPicPr>
        <p:blipFill>
          <a:blip r:embed="rId9"/>
          <a:stretch/>
        </p:blipFill>
        <p:spPr>
          <a:xfrm>
            <a:off x="2462040" y="2538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bd14582_" descr=""/>
          <p:cNvPicPr/>
          <p:nvPr/>
        </p:nvPicPr>
        <p:blipFill>
          <a:blip r:embed="rId10"/>
          <a:stretch/>
        </p:blipFill>
        <p:spPr>
          <a:xfrm>
            <a:off x="2724120" y="2538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bd14582_" descr=""/>
          <p:cNvPicPr/>
          <p:nvPr/>
        </p:nvPicPr>
        <p:blipFill>
          <a:blip r:embed="rId11"/>
          <a:stretch/>
        </p:blipFill>
        <p:spPr>
          <a:xfrm>
            <a:off x="4062240" y="252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bd14582_" descr=""/>
          <p:cNvPicPr/>
          <p:nvPr/>
        </p:nvPicPr>
        <p:blipFill>
          <a:blip r:embed="rId12"/>
          <a:stretch/>
        </p:blipFill>
        <p:spPr>
          <a:xfrm>
            <a:off x="4324320" y="252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bd14582_" descr=""/>
          <p:cNvPicPr/>
          <p:nvPr/>
        </p:nvPicPr>
        <p:blipFill>
          <a:blip r:embed="rId13"/>
          <a:stretch/>
        </p:blipFill>
        <p:spPr>
          <a:xfrm>
            <a:off x="4581360" y="252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bd14582_" descr=""/>
          <p:cNvPicPr/>
          <p:nvPr/>
        </p:nvPicPr>
        <p:blipFill>
          <a:blip r:embed="rId14"/>
          <a:stretch/>
        </p:blipFill>
        <p:spPr>
          <a:xfrm>
            <a:off x="7253280" y="2538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bd14582_" descr=""/>
          <p:cNvPicPr/>
          <p:nvPr/>
        </p:nvPicPr>
        <p:blipFill>
          <a:blip r:embed="rId15"/>
          <a:stretch/>
        </p:blipFill>
        <p:spPr>
          <a:xfrm>
            <a:off x="2457360" y="3052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bd14582_" descr=""/>
          <p:cNvPicPr/>
          <p:nvPr/>
        </p:nvPicPr>
        <p:blipFill>
          <a:blip r:embed="rId16"/>
          <a:stretch/>
        </p:blipFill>
        <p:spPr>
          <a:xfrm>
            <a:off x="2719440" y="3052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bd14582_" descr=""/>
          <p:cNvPicPr/>
          <p:nvPr/>
        </p:nvPicPr>
        <p:blipFill>
          <a:blip r:embed="rId17"/>
          <a:stretch/>
        </p:blipFill>
        <p:spPr>
          <a:xfrm>
            <a:off x="2976480" y="3052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bd14582_" descr=""/>
          <p:cNvPicPr/>
          <p:nvPr/>
        </p:nvPicPr>
        <p:blipFill>
          <a:blip r:embed="rId18"/>
          <a:stretch/>
        </p:blipFill>
        <p:spPr>
          <a:xfrm>
            <a:off x="4057560" y="304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bd14582_" descr=""/>
          <p:cNvPicPr/>
          <p:nvPr/>
        </p:nvPicPr>
        <p:blipFill>
          <a:blip r:embed="rId19"/>
          <a:stretch/>
        </p:blipFill>
        <p:spPr>
          <a:xfrm>
            <a:off x="7248600" y="3052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bd14582_" descr=""/>
          <p:cNvPicPr/>
          <p:nvPr/>
        </p:nvPicPr>
        <p:blipFill>
          <a:blip r:embed="rId20"/>
          <a:stretch/>
        </p:blipFill>
        <p:spPr>
          <a:xfrm>
            <a:off x="4052880" y="3538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bd14582_" descr=""/>
          <p:cNvPicPr/>
          <p:nvPr/>
        </p:nvPicPr>
        <p:blipFill>
          <a:blip r:embed="rId21"/>
          <a:stretch/>
        </p:blipFill>
        <p:spPr>
          <a:xfrm>
            <a:off x="4314960" y="3538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bd14582_" descr=""/>
          <p:cNvPicPr/>
          <p:nvPr/>
        </p:nvPicPr>
        <p:blipFill>
          <a:blip r:embed="rId22"/>
          <a:stretch/>
        </p:blipFill>
        <p:spPr>
          <a:xfrm>
            <a:off x="4572000" y="3538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bd14582_" descr=""/>
          <p:cNvPicPr/>
          <p:nvPr/>
        </p:nvPicPr>
        <p:blipFill>
          <a:blip r:embed="rId23"/>
          <a:stretch/>
        </p:blipFill>
        <p:spPr>
          <a:xfrm>
            <a:off x="7243920" y="3548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bd14582_" descr=""/>
          <p:cNvPicPr/>
          <p:nvPr/>
        </p:nvPicPr>
        <p:blipFill>
          <a:blip r:embed="rId24"/>
          <a:stretch/>
        </p:blipFill>
        <p:spPr>
          <a:xfrm>
            <a:off x="7505640" y="3548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bd14582_" descr=""/>
          <p:cNvPicPr/>
          <p:nvPr/>
        </p:nvPicPr>
        <p:blipFill>
          <a:blip r:embed="rId25"/>
          <a:stretch/>
        </p:blipFill>
        <p:spPr>
          <a:xfrm>
            <a:off x="2457360" y="4057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bd14582_" descr=""/>
          <p:cNvPicPr/>
          <p:nvPr/>
        </p:nvPicPr>
        <p:blipFill>
          <a:blip r:embed="rId26"/>
          <a:stretch/>
        </p:blipFill>
        <p:spPr>
          <a:xfrm>
            <a:off x="2719440" y="4057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bd14582_" descr=""/>
          <p:cNvPicPr/>
          <p:nvPr/>
        </p:nvPicPr>
        <p:blipFill>
          <a:blip r:embed="rId27"/>
          <a:stretch/>
        </p:blipFill>
        <p:spPr>
          <a:xfrm>
            <a:off x="4057560" y="40482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bd14582_" descr=""/>
          <p:cNvPicPr/>
          <p:nvPr/>
        </p:nvPicPr>
        <p:blipFill>
          <a:blip r:embed="rId28"/>
          <a:stretch/>
        </p:blipFill>
        <p:spPr>
          <a:xfrm>
            <a:off x="4319640" y="40482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bd14582_" descr=""/>
          <p:cNvPicPr/>
          <p:nvPr/>
        </p:nvPicPr>
        <p:blipFill>
          <a:blip r:embed="rId29"/>
          <a:stretch/>
        </p:blipFill>
        <p:spPr>
          <a:xfrm>
            <a:off x="5667480" y="40575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bd14582_" descr=""/>
          <p:cNvPicPr/>
          <p:nvPr/>
        </p:nvPicPr>
        <p:blipFill>
          <a:blip r:embed="rId30"/>
          <a:stretch/>
        </p:blipFill>
        <p:spPr>
          <a:xfrm>
            <a:off x="245736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bd14582_" descr=""/>
          <p:cNvPicPr/>
          <p:nvPr/>
        </p:nvPicPr>
        <p:blipFill>
          <a:blip r:embed="rId31"/>
          <a:stretch/>
        </p:blipFill>
        <p:spPr>
          <a:xfrm>
            <a:off x="271944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bd14582_" descr=""/>
          <p:cNvPicPr/>
          <p:nvPr/>
        </p:nvPicPr>
        <p:blipFill>
          <a:blip r:embed="rId32"/>
          <a:stretch/>
        </p:blipFill>
        <p:spPr>
          <a:xfrm>
            <a:off x="29764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bd14582_" descr=""/>
          <p:cNvPicPr/>
          <p:nvPr/>
        </p:nvPicPr>
        <p:blipFill>
          <a:blip r:embed="rId33"/>
          <a:stretch/>
        </p:blipFill>
        <p:spPr>
          <a:xfrm>
            <a:off x="5667480" y="4572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bd14582_" descr=""/>
          <p:cNvPicPr/>
          <p:nvPr/>
        </p:nvPicPr>
        <p:blipFill>
          <a:blip r:embed="rId34"/>
          <a:stretch/>
        </p:blipFill>
        <p:spPr>
          <a:xfrm>
            <a:off x="5929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bd14582_" descr=""/>
          <p:cNvPicPr/>
          <p:nvPr/>
        </p:nvPicPr>
        <p:blipFill>
          <a:blip r:embed="rId35"/>
          <a:stretch/>
        </p:blipFill>
        <p:spPr>
          <a:xfrm>
            <a:off x="7248600" y="4572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bd14582_" descr=""/>
          <p:cNvPicPr/>
          <p:nvPr/>
        </p:nvPicPr>
        <p:blipFill>
          <a:blip r:embed="rId36"/>
          <a:stretch/>
        </p:blipFill>
        <p:spPr>
          <a:xfrm>
            <a:off x="751032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bd14582_" descr=""/>
          <p:cNvPicPr/>
          <p:nvPr/>
        </p:nvPicPr>
        <p:blipFill>
          <a:blip r:embed="rId37"/>
          <a:stretch/>
        </p:blipFill>
        <p:spPr>
          <a:xfrm>
            <a:off x="4057560" y="50436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bd14582_" descr=""/>
          <p:cNvPicPr/>
          <p:nvPr/>
        </p:nvPicPr>
        <p:blipFill>
          <a:blip r:embed="rId38"/>
          <a:stretch/>
        </p:blipFill>
        <p:spPr>
          <a:xfrm>
            <a:off x="4319640" y="50436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bd14582_" descr=""/>
          <p:cNvPicPr/>
          <p:nvPr/>
        </p:nvPicPr>
        <p:blipFill>
          <a:blip r:embed="rId39"/>
          <a:stretch/>
        </p:blipFill>
        <p:spPr>
          <a:xfrm>
            <a:off x="4576680" y="50436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bd14582_" descr=""/>
          <p:cNvPicPr/>
          <p:nvPr/>
        </p:nvPicPr>
        <p:blipFill>
          <a:blip r:embed="rId40"/>
          <a:stretch/>
        </p:blipFill>
        <p:spPr>
          <a:xfrm>
            <a:off x="5667480" y="5052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bd14582_" descr=""/>
          <p:cNvPicPr/>
          <p:nvPr/>
        </p:nvPicPr>
        <p:blipFill>
          <a:blip r:embed="rId41"/>
          <a:stretch/>
        </p:blipFill>
        <p:spPr>
          <a:xfrm>
            <a:off x="5929200" y="5052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volution of online mkt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formation publishing </a:t>
            </a:r>
            <a:br>
              <a:rPr sz="2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(content provision/interactive brochure)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mpanies w significant offline presence begin their web presence using informational site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y migrate existing brochure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tend to be linear and very text heavy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2767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ransactional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ecure interface b/w external web page &amp; back-end comput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housed locally, thru svc provider (webcentral.com.au) or thru virtual merchant system (siteyahoo.com/s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dependent on content, can be self-genera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-b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must be 24/7: operational available, fully functional (no down-ti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volution of online mkt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907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ransactional sites (‘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562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26040" y="577692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ntent pro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3440" y="324468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o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72840" y="551016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60160" y="18288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56040" y="55389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0360" y="46483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t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80520" y="4981680"/>
            <a:ext cx="112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ectron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ill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3429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 genre of websites:</a:t>
            </a:r>
            <a:endParaRPr b="1" lang="en-US" sz="2000" spc="-1" strike="noStrike">
              <a:solidFill>
                <a:srgbClr val="5b84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ectronic billboards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 content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who the company is &amp; what it sells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ly offer downloadable accessories e.g. screensavers, desktop themes (coke.com) 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114800"/>
            <a:ext cx="3429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er facility to order pdts directly from web site w/o intermedi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le to link in real time to inventory syst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can see availabil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mputerstore.com.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volution of online mkt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33480" y="6462720"/>
            <a:ext cx="3504960" cy="38088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8495"/>
                </a:solidFill>
                <a:latin typeface="Arial"/>
              </a:rPr>
              <a:t>MKT 325 - Internet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9907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ransactional sites (‘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5562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26040" y="577692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ntent pro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3440" y="324468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o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2840" y="551016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60160" y="18288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56040" y="55389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80360" y="46483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t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6480" y="495288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nve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t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07320" y="3549600"/>
            <a:ext cx="86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ir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0520" y="4981680"/>
            <a:ext cx="112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ectron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ill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3733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verted catalogue</a:t>
            </a:r>
            <a:endParaRPr b="1" lang="en-US" sz="18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ers free information on a subject then has the material available on sale at the end of pdt information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s free information to lure customers to purchase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music reviews, band information</a:t>
            </a:r>
            <a:endParaRPr b="1" lang="en-US" sz="16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3809880"/>
            <a:ext cx="342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tual m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tore on dedicated e-commerc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dedicated linking mktplace web site joining sto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with or w/o cybermall 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,g. store.yahoo.com, cybermal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19400" y="714240"/>
            <a:ext cx="5105520" cy="304920"/>
          </a:xfrm>
          <a:prstGeom prst="rect">
            <a:avLst/>
          </a:prstGeom>
          <a:solidFill>
            <a:srgbClr val="a1e2e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8495"/>
                </a:solidFill>
                <a:latin typeface="Arial"/>
              </a:rPr>
              <a:t>Chapter 3 :: Unique features of Internet-base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10:50:20Z</dcterms:created>
  <dc:creator>radical</dc:creator>
  <dc:description/>
  <dc:language>en-US</dc:language>
  <cp:lastModifiedBy>radical</cp:lastModifiedBy>
  <dcterms:modified xsi:type="dcterms:W3CDTF">2002-10-07T03:18:00Z</dcterms:modified>
  <cp:revision>32</cp:revision>
  <dc:subject/>
  <dc:title>Static Liquid</dc:title>
</cp:coreProperties>
</file>